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339-0F73-42F1-A384-24FE8706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475-8C73-46B7-9C6A-CD436C32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91A-613F-4B7F-80EF-15196B5F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890-4723-4F21-BF56-34A4782B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F34-2803-414D-9D58-E1A8C5B4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098C-27A9-4FA2-8A06-E69F883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E7C7-276C-4A35-8EB8-1710FD14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7318-2686-462A-8201-CA8F506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B2EE-A4E7-4CCB-93BA-44EE47A9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7C66-DBF4-4D4E-8ADF-E1BE4584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8F77-6B79-4C6D-8648-6B4F966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FC8-59FF-474F-B090-F2E45ED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298D-0200-45E6-B44C-ABFEDD9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E442-2375-4AFF-B24F-5F11767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E19-85D6-46DC-9D69-6F299E4D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A4A5-E05D-4F5A-9C89-AF266103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118B-C215-4B0D-BE84-AA11EE38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BC6F-210E-4A0D-86E7-D81333AB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C70E-C783-45C2-A1C5-2FB42A48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08CA-30E4-496B-851B-4FF13D00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9423-A860-48A7-8712-30507A7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0666-3C94-47A0-B3E4-2DDD41A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ADA-D57C-477B-B631-CE3A7F1E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7A9F5-5E24-4A23-A71C-58853E0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E079-A300-4F96-8A1A-543DD66F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6DF4-9222-42E3-8180-26B4857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3524-0B64-49C9-94A5-13ED88F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4891-F50B-4257-AA42-FBC9CF19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D512-8433-48CB-B5B8-1988130E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73BA-860E-4769-A382-36347515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9759-96D7-485B-80D2-AA3B4108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7822-AC84-455E-ABCD-0AC8DCD7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14CF-9411-4281-975A-3899175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EDE-6ACC-46B5-8E85-BEF0E18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4428-FB06-4DFE-8573-BADD446D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C7EF-FE02-43BC-8219-118D48E7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526B-18AC-4DD9-9461-0FC2086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2586-67BE-4421-9177-6D07B36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4AD1-F055-40CB-9A1D-D4424A4F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BAD7-152D-4517-90AE-CB075CB7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F5A1-A1EB-422A-8CDB-92C631B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640F-51FC-4F0C-B116-0FC6ED5C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5EDE-EA7B-4D19-8DED-683A8BFB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E125F-47EC-4215-AE14-4F64E1A0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085-97DC-4E5D-9A28-859D4C7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D10D-E45C-4748-B21B-55D2C088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A540-627C-419F-A45D-AD718669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66A9-F894-4E38-834E-2B227331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62E9-0E8D-402D-B45B-CD58098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C474B-BFE3-43F3-A1E0-43DBBA69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D1E77-22CC-437A-9B1D-5A45269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2944-8354-49F7-9D22-AD5F2E1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4790-74E9-416D-99AA-DA2125C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DAF9-656E-44F7-A5F5-08EDFCFA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3C55-9630-4F5B-B87B-A7A7D4B1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12F-F5E4-49A8-8E10-8D373C3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EEA8A-13BC-4B1B-A31A-6410C2C5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804E-885D-4A6B-86D2-3EE0A8A4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C923-EC02-4B8A-A8BF-ACE1406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A1AD-BFD6-4CEB-A298-9CA1CC4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F0AC-8E13-46FA-9CB8-654C9CB3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28FA8-3A68-4906-A231-F00B7FD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7DF8-31DB-4AFD-ADB2-1BC01B4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8A63-C40D-4C47-8E13-11BFA01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AFDA6-EBEA-440C-99D5-B93ED756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0073-02BD-43F4-A61C-64D50530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BA5-BBA0-48D1-A9C6-54E70F20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9697F-AC6E-4A72-AD68-9E4CD1AD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6205C-99CD-42E8-8EF8-3F2277C0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2CA99-6BD0-4E4D-90C0-2159388D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9741F-2FD3-4309-8751-5F4AE2D1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FB69-85B1-464D-B512-A9A2960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135F-38D1-4B6C-BFCD-3BF4DD3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26535-2280-405E-9257-E0C8DC3E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5ECBC-843C-479C-8151-4366C2AF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4CEF-712C-49CC-8589-8AC6741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18C4-5283-4BA6-A809-CAF0460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44E-8F41-43C5-802F-891189D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48D0E-85EF-480E-A300-CFD8B98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0E3D-E75B-4A65-ACD7-298A179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9613-468B-4B02-9E5A-1D604F1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59DA-F27C-401C-819E-3E4ACDD1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D6637-204B-4B44-A541-68859D9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06A-4429-481E-A9F5-3802EBF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C9A4C-D483-4D5B-99CA-333C7B7B6A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DDED6-48AB-4111-9459-A343C4A89C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4B49F-5060-4E27-A2B7-699095149C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2BE4F-AF72-42FA-935B-0724DE2ED5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04CA0-8A58-4E76-9CFB-18F94B1F53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ED2C7-5B85-46FE-B154-5093B0CB92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76C36-AB5F-4425-BB29-486E5E3F9D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26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3" descr=""/>
          <p:cNvPicPr/>
          <p:nvPr/>
        </p:nvPicPr>
        <p:blipFill>
          <a:blip r:embed="rId1"/>
          <a:stretch/>
        </p:blipFill>
        <p:spPr>
          <a:xfrm>
            <a:off x="0" y="2374920"/>
            <a:ext cx="12185640" cy="14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Image 2" descr=""/>
          <p:cNvPicPr/>
          <p:nvPr/>
        </p:nvPicPr>
        <p:blipFill>
          <a:blip r:embed="rId1"/>
          <a:stretch/>
        </p:blipFill>
        <p:spPr>
          <a:xfrm>
            <a:off x="0" y="1954080"/>
            <a:ext cx="1217916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2" descr=""/>
          <p:cNvPicPr/>
          <p:nvPr/>
        </p:nvPicPr>
        <p:blipFill>
          <a:blip r:embed="rId1"/>
          <a:stretch/>
        </p:blipFill>
        <p:spPr>
          <a:xfrm>
            <a:off x="0" y="1859040"/>
            <a:ext cx="12176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3" descr=""/>
          <p:cNvPicPr/>
          <p:nvPr/>
        </p:nvPicPr>
        <p:blipFill>
          <a:blip r:embed="rId1"/>
          <a:stretch/>
        </p:blipFill>
        <p:spPr>
          <a:xfrm>
            <a:off x="0" y="2050920"/>
            <a:ext cx="120715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3" descr=""/>
          <p:cNvPicPr/>
          <p:nvPr/>
        </p:nvPicPr>
        <p:blipFill>
          <a:blip r:embed="rId1"/>
          <a:stretch/>
        </p:blipFill>
        <p:spPr>
          <a:xfrm>
            <a:off x="0" y="2506680"/>
            <a:ext cx="1220328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3" descr=""/>
          <p:cNvPicPr/>
          <p:nvPr/>
        </p:nvPicPr>
        <p:blipFill>
          <a:blip r:embed="rId1"/>
          <a:stretch/>
        </p:blipFill>
        <p:spPr>
          <a:xfrm>
            <a:off x="4680" y="2781360"/>
            <a:ext cx="1218744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3" descr=""/>
          <p:cNvPicPr/>
          <p:nvPr/>
        </p:nvPicPr>
        <p:blipFill>
          <a:blip r:embed="rId1"/>
          <a:stretch/>
        </p:blipFill>
        <p:spPr>
          <a:xfrm>
            <a:off x="0" y="2735280"/>
            <a:ext cx="1216512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3" descr=""/>
          <p:cNvPicPr/>
          <p:nvPr/>
        </p:nvPicPr>
        <p:blipFill>
          <a:blip r:embed="rId1"/>
          <a:stretch/>
        </p:blipFill>
        <p:spPr>
          <a:xfrm>
            <a:off x="0" y="2382840"/>
            <a:ext cx="122191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Image 3" descr=""/>
          <p:cNvPicPr/>
          <p:nvPr/>
        </p:nvPicPr>
        <p:blipFill>
          <a:blip r:embed="rId1"/>
          <a:stretch/>
        </p:blipFill>
        <p:spPr>
          <a:xfrm>
            <a:off x="0" y="2573280"/>
            <a:ext cx="1225224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3" descr=""/>
          <p:cNvPicPr/>
          <p:nvPr/>
        </p:nvPicPr>
        <p:blipFill>
          <a:blip r:embed="rId1"/>
          <a:stretch/>
        </p:blipFill>
        <p:spPr>
          <a:xfrm>
            <a:off x="0" y="2305080"/>
            <a:ext cx="122490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42:57Z</dcterms:modified>
  <cp:revision>62</cp:revision>
  <dc:subject/>
  <dc:title>Questions FLASH</dc:title>
</cp:coreProperties>
</file>