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0A96-F95B-443F-BE84-22FBDF19C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5AED-E3F8-456F-9281-ED7C8272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B789-B3E7-4981-9CB5-E6F050DF0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6DED-CF40-49E4-8F45-CC8C72386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A5CE-0A51-4749-9063-4DDF539C9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142A-E294-47D1-9114-6FC54A97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DCE2-9BCB-4BDB-8C41-FCD38ACA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7D41-A34B-47A1-B0CD-3F535781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9BCA-0070-4641-AF9C-4B9B0758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D042-291B-469B-9E80-14AA7189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840C-6C53-4038-B910-6453907D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5E80-4DD6-4AD4-8AB1-C7953544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9DD5-68C4-4329-96A2-B9E4CE23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39C4-BB5A-43F4-85A8-23C15F7F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DA08-2740-44F3-A49B-A8B51F8C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8523-3577-4B9D-A5CD-B2B6C191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5AF4-459F-48B3-8364-3465E8302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B9BB4-CDAE-4CB8-97D4-762D3E13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4640F-C5C8-4C5C-82C5-6E28C915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1ABB5-76B8-47F5-81B3-7B05C15E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4F644-3AD5-4873-85E1-8D886DD9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2CEBE-7870-4ABE-8EC9-F461B5E3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16DA-5313-4080-BCFE-BCF08296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5C2FA-C80D-424E-A06A-A11B2DEC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36E12-6951-4986-A4C9-87025E26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CB7E6-80D2-4D1B-9CD1-8B0C0734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FFAAE-A08D-437C-83FE-36ACCC20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0C1C5-D40F-45FE-BC16-88DF6511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ECAF3-51B6-43CB-93E3-04226C7DD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3321F-B0A4-4CF0-BC4C-6B2ABD7A6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87263-ED7D-47F4-83B7-6ECBC9C31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C4788-48AB-459D-B7FB-75534747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8E13B-BC6C-4D3C-9BF6-F968B621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A070-FB90-44C6-B769-42D95DCA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55B79-5078-4DC5-AAA6-FFD7C3C3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DA30F-9A8A-410D-8788-0E00EDE5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2A940-EB5F-4602-AD9F-8C493E9E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9EC15-0771-40D3-AF10-0A8DCE6D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5A42C-7C1B-4B34-9CA3-8BD223BE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A8F26-8AD6-4452-BF01-DDA0FDFF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27355-5D2A-45AF-A55F-2C5C3135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87DBB-BF71-43F6-B89A-B301D05AC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9B1B1-47F4-482B-8419-470D2F246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911C9-3F69-47AB-9256-ACC8B6DC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4A8D-5589-42F1-B04F-ECF695E8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02D49-E043-4FFE-8F7F-B5145BEF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D0ACA-9B6E-4C7C-85DD-ADE85AE0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C0A14-E22D-498F-BE7E-234C417D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DCB71-CA54-455E-8CA3-9C5B6EEF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6DCB2-9D79-477D-B7DA-2541BC95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8AC76-43F7-4369-852B-C9343125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82EFF-A98E-480E-BBE4-6E48D015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399F5-F658-4F2C-BB92-D1771C54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39D90-C360-413D-87B0-53758BD4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2A350-694A-47DF-91CD-9BA0163A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8076-B0D0-4C50-A1E2-81C6502E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DDBFB-6DDD-48F5-A0B9-06DEFC9FB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94DC3-5131-4C77-81F0-3D36D384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16FB2-ABE8-4058-AEFF-F45A4BA3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4D10F-A934-40B5-B964-4A13B7D6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5ACD1-BAA3-4F99-9666-D2C568D8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F7831-B1F9-4AB7-9DBC-6727B33F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66AD5-C7C2-4DA1-8B94-4B30826D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96384-C51E-4FE4-BB2D-0DFEA275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7F311-9883-4EDD-88F7-A0472079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93F65-2A49-49F4-B836-8781FC90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16BE-6CF9-4940-8BED-58768CFF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E8630-77E5-4535-A5FF-2779F536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0C49C-C095-43E9-9750-17522F03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0C7C4-C84D-43CE-8ACC-0CF71A5A2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FE9F5-4477-4AAA-B230-B87A95A7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E6CB9-92CD-4CF7-8213-6BC38A23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EAF81-6A81-49EA-A4B5-EFA4054F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32E72-253E-4499-8D5D-9A0B8F5F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A55EF-0370-423B-B8C4-56AF5D18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32951-DE07-4911-AEDF-9CEA5553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380A8-1072-4C75-B9E1-730D2803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14FE-A8B2-41CD-83F7-90402AC9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00850-30F9-4DF1-A21C-57DD12E0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0E137-E69A-45CC-A8E3-1F433E5B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DB2A2-272E-40B0-AAE4-7C8212C6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82E7C-F4AE-42DE-8D9C-3A8CE3E6B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4E8C6-4F8E-4290-AA98-C223462B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27B8-C9EB-46BE-96A9-E27D6B8D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94640" y="6356520"/>
            <a:ext cx="291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800" y="6356520"/>
            <a:ext cx="777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63120" y="38052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B6EB8A-61DF-4FD5-B738-7B44B287A7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0-HD-BTM.png"/>
          <p:cNvPicPr/>
          <p:nvPr/>
        </p:nvPicPr>
        <p:blipFill>
          <a:blip r:embed="rId3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908840" y="4314960"/>
            <a:ext cx="2911680" cy="3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1371600" y="4324320"/>
            <a:ext cx="640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077320" y="1430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9049F3-029F-4C6F-BCE8-D615020CD9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685800" y="380880"/>
            <a:ext cx="6991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E79D72-2B9B-4DA6-BEE4-0530DBB2F4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B9E813-94BE-4535-ACCF-AA2AC58641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476280" y="93348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10983960" y="270180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49E1F8-6F76-4176-8596-BC9D352115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813440" y="379440"/>
            <a:ext cx="291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EF6CC6-2DC1-42AC-82D4-156FF8BDC1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7813440" y="379440"/>
            <a:ext cx="291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685800" y="380520"/>
            <a:ext cx="699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3399B8-A93C-4B61-9E1E-8CCA8CAFC1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1803240"/>
            <a:ext cx="9448920" cy="18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Century Gothic"/>
              </a:rPr>
              <a:t>QUESTIONS FLASH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71240" y="3631680"/>
            <a:ext cx="9448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entury Gothic"/>
              </a:rPr>
              <a:t>Géométrie mentale , calcul mental, et algorithmiqu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ZoneTexte 2"/>
          <p:cNvSpPr/>
          <p:nvPr/>
        </p:nvSpPr>
        <p:spPr>
          <a:xfrm>
            <a:off x="7610400" y="863640"/>
            <a:ext cx="46584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Baskerville Old Face"/>
              </a:rPr>
              <a:t>Mardi 26 Septembre 2017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ZoneTexte 3"/>
          <p:cNvSpPr/>
          <p:nvPr/>
        </p:nvSpPr>
        <p:spPr>
          <a:xfrm>
            <a:off x="9942120" y="25369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entury Gothic"/>
              </a:rPr>
              <a:t>5eme DAKAR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ZoneTexte 5"/>
          <p:cNvSpPr/>
          <p:nvPr/>
        </p:nvSpPr>
        <p:spPr>
          <a:xfrm>
            <a:off x="9901800" y="296244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entury Gothic"/>
              </a:rPr>
              <a:t>5eme PRETOR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9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ZoneTexte 4"/>
          <p:cNvSpPr/>
          <p:nvPr/>
        </p:nvSpPr>
        <p:spPr>
          <a:xfrm>
            <a:off x="27720" y="1346040"/>
            <a:ext cx="63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Century Gothic"/>
              </a:rPr>
              <a:t>Quel est le volume du grand cube 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ZoneTexte 6"/>
          <p:cNvSpPr/>
          <p:nvPr/>
        </p:nvSpPr>
        <p:spPr>
          <a:xfrm>
            <a:off x="426600" y="5457960"/>
            <a:ext cx="25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ZoneTexte 7"/>
          <p:cNvSpPr/>
          <p:nvPr/>
        </p:nvSpPr>
        <p:spPr>
          <a:xfrm>
            <a:off x="4169880" y="5450040"/>
            <a:ext cx="25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B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ZoneTexte 8"/>
          <p:cNvSpPr/>
          <p:nvPr/>
        </p:nvSpPr>
        <p:spPr>
          <a:xfrm>
            <a:off x="7927200" y="5450040"/>
            <a:ext cx="253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5" name="Image 5" descr=""/>
          <p:cNvPicPr/>
          <p:nvPr/>
        </p:nvPicPr>
        <p:blipFill>
          <a:blip r:embed="rId1"/>
          <a:stretch/>
        </p:blipFill>
        <p:spPr>
          <a:xfrm>
            <a:off x="631800" y="1903320"/>
            <a:ext cx="10194840" cy="3554640"/>
          </a:xfrm>
          <a:prstGeom prst="rect">
            <a:avLst/>
          </a:prstGeom>
          <a:ln w="0">
            <a:noFill/>
          </a:ln>
        </p:spPr>
      </p:pic>
      <p:pic>
        <p:nvPicPr>
          <p:cNvPr id="336" name="Image 9" descr=""/>
          <p:cNvPicPr/>
          <p:nvPr/>
        </p:nvPicPr>
        <p:blipFill>
          <a:blip r:embed="rId2"/>
          <a:stretch/>
        </p:blipFill>
        <p:spPr>
          <a:xfrm>
            <a:off x="969840" y="6168960"/>
            <a:ext cx="1417680" cy="566640"/>
          </a:xfrm>
          <a:prstGeom prst="rect">
            <a:avLst/>
          </a:prstGeom>
          <a:ln w="0">
            <a:noFill/>
          </a:ln>
        </p:spPr>
      </p:pic>
      <p:pic>
        <p:nvPicPr>
          <p:cNvPr id="337" name="Image 10" descr=""/>
          <p:cNvPicPr/>
          <p:nvPr/>
        </p:nvPicPr>
        <p:blipFill>
          <a:blip r:embed="rId3"/>
          <a:stretch/>
        </p:blipFill>
        <p:spPr>
          <a:xfrm>
            <a:off x="4676760" y="6168960"/>
            <a:ext cx="1270080" cy="566640"/>
          </a:xfrm>
          <a:prstGeom prst="rect">
            <a:avLst/>
          </a:prstGeom>
          <a:ln w="0">
            <a:noFill/>
          </a:ln>
        </p:spPr>
      </p:pic>
      <p:pic>
        <p:nvPicPr>
          <p:cNvPr id="338" name="Image 11" descr=""/>
          <p:cNvPicPr/>
          <p:nvPr/>
        </p:nvPicPr>
        <p:blipFill>
          <a:blip r:embed="rId4"/>
          <a:stretch/>
        </p:blipFill>
        <p:spPr>
          <a:xfrm>
            <a:off x="8515440" y="6168960"/>
            <a:ext cx="1355760" cy="56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10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0" name="Image 2" descr=""/>
          <p:cNvPicPr/>
          <p:nvPr/>
        </p:nvPicPr>
        <p:blipFill>
          <a:blip r:embed="rId1"/>
          <a:stretch/>
        </p:blipFill>
        <p:spPr>
          <a:xfrm>
            <a:off x="8334360" y="1346040"/>
            <a:ext cx="3857760" cy="3248280"/>
          </a:xfrm>
          <a:prstGeom prst="rect">
            <a:avLst/>
          </a:prstGeom>
          <a:ln w="0">
            <a:noFill/>
          </a:ln>
        </p:spPr>
      </p:pic>
      <p:sp>
        <p:nvSpPr>
          <p:cNvPr id="341" name="ZoneTexte 5"/>
          <p:cNvSpPr/>
          <p:nvPr/>
        </p:nvSpPr>
        <p:spPr>
          <a:xfrm>
            <a:off x="2190240" y="1069920"/>
            <a:ext cx="618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Century Gothic"/>
              </a:rPr>
              <a:t>Quelle instruction faut il rajouter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Century Gothic"/>
              </a:rPr>
              <a:t>pour répéter l’aile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2" name="Image 4" descr=""/>
          <p:cNvPicPr/>
          <p:nvPr/>
        </p:nvPicPr>
        <p:blipFill>
          <a:blip r:embed="rId2"/>
          <a:stretch/>
        </p:blipFill>
        <p:spPr>
          <a:xfrm>
            <a:off x="8169120" y="4594320"/>
            <a:ext cx="4023000" cy="1616040"/>
          </a:xfrm>
          <a:prstGeom prst="rect">
            <a:avLst/>
          </a:prstGeom>
          <a:ln w="0">
            <a:noFill/>
          </a:ln>
        </p:spPr>
      </p:pic>
      <p:sp>
        <p:nvSpPr>
          <p:cNvPr id="343" name="ZoneTexte 9"/>
          <p:cNvSpPr/>
          <p:nvPr/>
        </p:nvSpPr>
        <p:spPr>
          <a:xfrm>
            <a:off x="-75240" y="1920960"/>
            <a:ext cx="25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ZoneTexte 11"/>
          <p:cNvSpPr/>
          <p:nvPr/>
        </p:nvSpPr>
        <p:spPr>
          <a:xfrm>
            <a:off x="-82440" y="3417840"/>
            <a:ext cx="25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B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ZoneTexte 12"/>
          <p:cNvSpPr/>
          <p:nvPr/>
        </p:nvSpPr>
        <p:spPr>
          <a:xfrm>
            <a:off x="-78840" y="5002200"/>
            <a:ext cx="253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6" name="Image 10" descr=""/>
          <p:cNvPicPr/>
          <p:nvPr/>
        </p:nvPicPr>
        <p:blipFill>
          <a:blip r:embed="rId3"/>
          <a:stretch/>
        </p:blipFill>
        <p:spPr>
          <a:xfrm>
            <a:off x="109440" y="2532240"/>
            <a:ext cx="2144880" cy="885600"/>
          </a:xfrm>
          <a:prstGeom prst="rect">
            <a:avLst/>
          </a:prstGeom>
          <a:ln w="0">
            <a:noFill/>
          </a:ln>
        </p:spPr>
      </p:pic>
      <p:pic>
        <p:nvPicPr>
          <p:cNvPr id="347" name="Image 13" descr=""/>
          <p:cNvPicPr/>
          <p:nvPr/>
        </p:nvPicPr>
        <p:blipFill>
          <a:blip r:embed="rId4"/>
          <a:stretch/>
        </p:blipFill>
        <p:spPr>
          <a:xfrm>
            <a:off x="0" y="4262400"/>
            <a:ext cx="2297160" cy="652680"/>
          </a:xfrm>
          <a:prstGeom prst="rect">
            <a:avLst/>
          </a:prstGeom>
          <a:ln w="0">
            <a:noFill/>
          </a:ln>
        </p:spPr>
      </p:pic>
      <p:pic>
        <p:nvPicPr>
          <p:cNvPr id="348" name="Image 14" descr=""/>
          <p:cNvPicPr/>
          <p:nvPr/>
        </p:nvPicPr>
        <p:blipFill>
          <a:blip r:embed="rId5"/>
          <a:stretch/>
        </p:blipFill>
        <p:spPr>
          <a:xfrm>
            <a:off x="109440" y="5662440"/>
            <a:ext cx="2144880" cy="1181160"/>
          </a:xfrm>
          <a:prstGeom prst="rect">
            <a:avLst/>
          </a:prstGeom>
          <a:ln w="0">
            <a:noFill/>
          </a:ln>
        </p:spPr>
      </p:pic>
      <p:pic>
        <p:nvPicPr>
          <p:cNvPr id="349" name="Image 2" descr=""/>
          <p:cNvPicPr/>
          <p:nvPr/>
        </p:nvPicPr>
        <p:blipFill>
          <a:blip r:embed="rId6"/>
          <a:stretch/>
        </p:blipFill>
        <p:spPr>
          <a:xfrm>
            <a:off x="2462040" y="2419200"/>
            <a:ext cx="5715000" cy="379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FIN DU FLASH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>
            <a:off x="941400" y="511200"/>
            <a:ext cx="5952960" cy="61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1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3" name="Image 5" descr=""/>
          <p:cNvPicPr/>
          <p:nvPr/>
        </p:nvPicPr>
        <p:blipFill>
          <a:blip r:embed="rId1"/>
          <a:stretch/>
        </p:blipFill>
        <p:spPr>
          <a:xfrm>
            <a:off x="0" y="1436760"/>
            <a:ext cx="12222000" cy="39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2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5" name="Image 2" descr=""/>
          <p:cNvPicPr/>
          <p:nvPr/>
        </p:nvPicPr>
        <p:blipFill>
          <a:blip r:embed="rId1"/>
          <a:stretch/>
        </p:blipFill>
        <p:spPr>
          <a:xfrm>
            <a:off x="0" y="1436760"/>
            <a:ext cx="1220796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3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Image 3" descr=""/>
          <p:cNvPicPr/>
          <p:nvPr/>
        </p:nvPicPr>
        <p:blipFill>
          <a:blip r:embed="rId1"/>
          <a:stretch/>
        </p:blipFill>
        <p:spPr>
          <a:xfrm>
            <a:off x="0" y="1436760"/>
            <a:ext cx="12177720" cy="39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4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9" name="Image 3" descr=""/>
          <p:cNvPicPr/>
          <p:nvPr/>
        </p:nvPicPr>
        <p:blipFill>
          <a:blip r:embed="rId1"/>
          <a:stretch/>
        </p:blipFill>
        <p:spPr>
          <a:xfrm>
            <a:off x="0" y="1436760"/>
            <a:ext cx="12219120" cy="40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5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1" name="Image 3" descr=""/>
          <p:cNvPicPr/>
          <p:nvPr/>
        </p:nvPicPr>
        <p:blipFill>
          <a:blip r:embed="rId1"/>
          <a:stretch/>
        </p:blipFill>
        <p:spPr>
          <a:xfrm>
            <a:off x="0" y="1436760"/>
            <a:ext cx="12207960" cy="40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6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" name="ZoneTexte 4"/>
          <p:cNvSpPr/>
          <p:nvPr/>
        </p:nvSpPr>
        <p:spPr>
          <a:xfrm>
            <a:off x="-23760" y="143676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Century Gothic"/>
              </a:rPr>
              <a:t>Quelle est l’aire du carré suivant 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ZoneTexte 5"/>
          <p:cNvSpPr/>
          <p:nvPr/>
        </p:nvSpPr>
        <p:spPr>
          <a:xfrm>
            <a:off x="18360" y="1960560"/>
            <a:ext cx="2556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Baskerville Old Face"/>
              </a:rPr>
              <a:t> </a:t>
            </a:r>
            <a:r>
              <a:rPr b="1" lang="fr-FR" sz="3200" spc="-1" strike="noStrike">
                <a:solidFill>
                  <a:srgbClr val="ffff00"/>
                </a:solidFill>
                <a:latin typeface="Baskerville Old Face"/>
              </a:rPr>
              <a:t>6 carreaux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ZoneTexte 6"/>
          <p:cNvSpPr/>
          <p:nvPr/>
        </p:nvSpPr>
        <p:spPr>
          <a:xfrm>
            <a:off x="-20880" y="3144960"/>
            <a:ext cx="2562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B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Baskerville Old Face"/>
              </a:rPr>
              <a:t>12 carreaux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ZoneTexte 7"/>
          <p:cNvSpPr/>
          <p:nvPr/>
        </p:nvSpPr>
        <p:spPr>
          <a:xfrm>
            <a:off x="68760" y="4351320"/>
            <a:ext cx="2532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Baskerville Old Face"/>
              </a:rPr>
              <a:t>9 carreaux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7" name="Image 8" descr=""/>
          <p:cNvPicPr/>
          <p:nvPr/>
        </p:nvPicPr>
        <p:blipFill>
          <a:blip r:embed="rId1"/>
          <a:stretch/>
        </p:blipFill>
        <p:spPr>
          <a:xfrm>
            <a:off x="6545160" y="1941480"/>
            <a:ext cx="5218200" cy="48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7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ZoneTexte 3"/>
          <p:cNvSpPr/>
          <p:nvPr/>
        </p:nvSpPr>
        <p:spPr>
          <a:xfrm>
            <a:off x="-71640" y="1436760"/>
            <a:ext cx="66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Century Gothic"/>
              </a:rPr>
              <a:t>Quelle est l’aire du triangle suivant 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ZoneTexte 5"/>
          <p:cNvSpPr/>
          <p:nvPr/>
        </p:nvSpPr>
        <p:spPr>
          <a:xfrm>
            <a:off x="18360" y="1960560"/>
            <a:ext cx="2556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Baskerville Old Face"/>
              </a:rPr>
              <a:t>6 carreaux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ZoneTexte 6"/>
          <p:cNvSpPr/>
          <p:nvPr/>
        </p:nvSpPr>
        <p:spPr>
          <a:xfrm>
            <a:off x="-20880" y="3144960"/>
            <a:ext cx="2562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B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Baskerville Old Face"/>
              </a:rPr>
              <a:t>12 carreaux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ZoneTexte 7"/>
          <p:cNvSpPr/>
          <p:nvPr/>
        </p:nvSpPr>
        <p:spPr>
          <a:xfrm>
            <a:off x="68760" y="4351320"/>
            <a:ext cx="2532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Baskerville Old Face"/>
              </a:rPr>
              <a:t>7 carreaux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3" name="Image 4" descr=""/>
          <p:cNvPicPr/>
          <p:nvPr/>
        </p:nvPicPr>
        <p:blipFill>
          <a:blip r:embed="rId1"/>
          <a:stretch/>
        </p:blipFill>
        <p:spPr>
          <a:xfrm>
            <a:off x="6532560" y="1289160"/>
            <a:ext cx="500076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8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ZoneTexte 4"/>
          <p:cNvSpPr/>
          <p:nvPr/>
        </p:nvSpPr>
        <p:spPr>
          <a:xfrm>
            <a:off x="-12600" y="1436760"/>
            <a:ext cx="56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Century Gothic"/>
              </a:rPr>
              <a:t>À 11h la température était de 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ZoneTexte 6"/>
          <p:cNvSpPr/>
          <p:nvPr/>
        </p:nvSpPr>
        <p:spPr>
          <a:xfrm>
            <a:off x="-329760" y="1960560"/>
            <a:ext cx="3660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Baskerville Old Face"/>
              </a:rPr>
              <a:t>21 degrés Celsiu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ZoneTexte 7"/>
          <p:cNvSpPr/>
          <p:nvPr/>
        </p:nvSpPr>
        <p:spPr>
          <a:xfrm>
            <a:off x="-329760" y="3295800"/>
            <a:ext cx="3660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B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Baskerville Old Face"/>
              </a:rPr>
              <a:t>20 degrés Celsiu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ZoneTexte 8"/>
          <p:cNvSpPr/>
          <p:nvPr/>
        </p:nvSpPr>
        <p:spPr>
          <a:xfrm>
            <a:off x="-329760" y="4664160"/>
            <a:ext cx="3660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Baskerville Old Face"/>
              </a:rPr>
              <a:t>24 degrés Celsiu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9" name="Image 5" descr=""/>
          <p:cNvPicPr/>
          <p:nvPr/>
        </p:nvPicPr>
        <p:blipFill>
          <a:blip r:embed="rId1"/>
          <a:stretch/>
        </p:blipFill>
        <p:spPr>
          <a:xfrm>
            <a:off x="5638680" y="1803240"/>
            <a:ext cx="6442200" cy="4894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0T23:07:47Z</dcterms:created>
  <dc:creator>françois FATOUX</dc:creator>
  <dc:description/>
  <dc:language>en-US</dc:language>
  <cp:lastModifiedBy>françois FATOUX</cp:lastModifiedBy>
  <dcterms:modified xsi:type="dcterms:W3CDTF">2017-09-23T15:29:05Z</dcterms:modified>
  <cp:revision>61</cp:revision>
  <dc:subject/>
  <dc:title>Questions FLASH</dc:title>
</cp:coreProperties>
</file>