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653-2EED-49DE-A623-678ED1EE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A5F-A76A-477B-9F7C-64C1D973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EDD-A3F9-4542-9336-A0DB222E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B3F-AB5A-47F1-8899-2C6D7789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5497-4929-4BE8-84EF-5376700C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25B3-24B2-45BB-AC33-80737046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D4B2-C383-4044-8A0D-989FAF8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48B0-8144-4B0C-A13B-83F68318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246F-9EAC-4D4F-B7AC-6EB8DAA2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E65C-84D6-4FF0-8EC8-5405AB77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FB1F-F6F6-4CAC-979E-B946F24C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C88-C1F9-415B-AE45-BBC20411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76BD-B7D7-45DE-A21C-F83625A4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BCB6-CE08-4D61-87C9-50C868C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58E8-6698-42BD-B1C5-159D11A8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7FF-A1B8-49FA-B768-4AF77468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A7C-5223-426B-B2D4-E4688895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E941-293B-4FA7-875D-E04FCFEF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4611-2FF6-49A9-9F20-43C7E464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4583-64FB-40C9-87CE-F222C3D1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3009-36B4-41C2-90CF-91CFCB65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7B00-158D-4E37-898F-2F9B3061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537-9FBA-4C0E-8A85-34FF39C3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E615-6328-4BDF-B2E1-ABE42B3D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5AB6-905B-4957-9291-787A030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C334-7D7C-43A5-9025-430456B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9887-7C94-419D-9092-FCA32E2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4B27-C888-4A2D-B7BA-CDA8A5B1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E1F2-29BD-4FD3-BB8C-8FAADE51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2955-E022-4E47-A358-8EBDE332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AFE47-C1F2-4CA3-822E-C70E2B9A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6562-6475-48E0-9401-1B7D71C6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954D2-A142-4E23-80B0-DB374B6D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DF3-8F60-400B-92CA-AC637B51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5E7EE-9F74-4CE4-8AF8-AD3D782B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60A5-BBB6-4887-A193-06AD157C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3CB3-3CB5-4763-ADCA-96D8C2E7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AF4B0-EA24-48E0-B2FB-20D592A9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E96B-F903-487C-876F-9A30D64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FD609-49FC-4F10-B0B2-6FB3BD3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1A7A-A706-4E20-9E0E-5037DF1D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16ECF-4518-4CEB-8B0A-D1C62265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FF0F4-2831-4670-AC94-33D4EEAA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BCC76-AC9E-4A44-AA8D-AD0E439B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FE9-7C95-4358-8AE9-AAFF8C19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E9CFB-6220-440B-9E16-158A325C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D566C-CD6B-44CC-B8A7-4C1C6299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CE5E8-76D1-4BCB-A7B3-6770B19D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90F9B-B4F3-4765-A36E-D8B368E9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0EECE-0242-4C89-AD00-C9998697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716F4-2316-43A2-A3D7-DB8D97F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5346-B581-4F7A-A469-1D8242DA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B1595-3391-4DAC-89B5-72E7F9B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1192-C494-4776-B06B-A84A8322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82CE-4411-42E6-A3E9-2CCE357D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8E1-245E-4BD7-AC0C-CCCA6D30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818FF-9599-474A-9936-82706713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85F44-7E5C-4145-BBF2-174B3BFB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E2A9-3627-4FE9-AE6E-F9DF42D2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8FE54-BA91-4B05-9CF7-CC059368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AEFA-D3EA-49F2-A215-EB192F33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2859F-6410-4157-8519-16BA99CB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D1BD-3950-4A33-B374-15764B11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C6F7-8BC9-4D1E-8A52-2DDFFD32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086F3-38D9-4BC1-BD4B-AF4997D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1B173-4BB6-4640-9A4A-B17CEB3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150-1C65-410E-A66C-CD0B1D30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0EDC2-DE0E-4C80-9F9F-7317A2CE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431DF-1EE4-4CAF-8E07-9788A7CE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9681E-5781-45D6-88B4-E74028BB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E46E0-557E-4EE4-A845-EAC4EAB9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49C79-B271-44EA-A733-D824DA81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1DF4A-9F07-413D-ACD0-9AB10888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0995-8485-49F0-9CED-5B8E8D4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0C450-C6D9-40D3-8EA8-7D48BD72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04A95-ABAF-40CD-B628-20C5CB2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FB43F-6E5A-49D8-93B8-D5C00A7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321-C757-47E3-A454-86E33EBF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B84DB-4139-4BDA-94C9-9E69E22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E085-3342-4015-85C7-25E48E8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C9DEE-354F-44FE-AADE-12796218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43156-5FA1-4C31-A7C2-A47437B3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ACB75-70C6-492B-98A9-67D8032C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85A-0029-4145-A982-E66ECC3D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91E70-A705-44FF-A251-239017C3A9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BFB31-E7EC-4107-B0C2-9C4DD0607D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EECC7-B676-432B-A0BB-1B3297435E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5CBFA-4A74-4F3F-9B74-1EBA9E9F1E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09FA8-0736-44E0-9425-F70FD39559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8FE51-ECDC-4953-9E6C-C3E3120E3E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EB685-CCC6-4F34-A8FC-A93E807398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606440" y="863640"/>
            <a:ext cx="45072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Jeudi 28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Image 2" descr=""/>
          <p:cNvPicPr/>
          <p:nvPr/>
        </p:nvPicPr>
        <p:blipFill>
          <a:blip r:embed="rId1"/>
          <a:stretch/>
        </p:blipFill>
        <p:spPr>
          <a:xfrm>
            <a:off x="0" y="2224080"/>
            <a:ext cx="1217772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Image 2" descr=""/>
          <p:cNvPicPr/>
          <p:nvPr/>
        </p:nvPicPr>
        <p:blipFill>
          <a:blip r:embed="rId1"/>
          <a:stretch/>
        </p:blipFill>
        <p:spPr>
          <a:xfrm>
            <a:off x="0" y="2224080"/>
            <a:ext cx="121633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Image 2" descr=""/>
          <p:cNvPicPr/>
          <p:nvPr/>
        </p:nvPicPr>
        <p:blipFill>
          <a:blip r:embed="rId1"/>
          <a:stretch/>
        </p:blipFill>
        <p:spPr>
          <a:xfrm>
            <a:off x="0" y="2217600"/>
            <a:ext cx="12173040" cy="17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ZoneTexte 2"/>
          <p:cNvSpPr/>
          <p:nvPr/>
        </p:nvSpPr>
        <p:spPr>
          <a:xfrm>
            <a:off x="7610400" y="863640"/>
            <a:ext cx="4658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ardi 26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ZoneTexte 3"/>
          <p:cNvSpPr/>
          <p:nvPr/>
        </p:nvSpPr>
        <p:spPr>
          <a:xfrm>
            <a:off x="9942120" y="2536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ZoneTexte 5"/>
          <p:cNvSpPr/>
          <p:nvPr/>
        </p:nvSpPr>
        <p:spPr>
          <a:xfrm>
            <a:off x="9901800" y="2962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Image 2" descr=""/>
          <p:cNvPicPr/>
          <p:nvPr/>
        </p:nvPicPr>
        <p:blipFill>
          <a:blip r:embed="rId1"/>
          <a:stretch/>
        </p:blipFill>
        <p:spPr>
          <a:xfrm>
            <a:off x="0" y="2924280"/>
            <a:ext cx="12204720" cy="15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Image 2" descr=""/>
          <p:cNvPicPr/>
          <p:nvPr/>
        </p:nvPicPr>
        <p:blipFill>
          <a:blip r:embed="rId1"/>
          <a:stretch/>
        </p:blipFill>
        <p:spPr>
          <a:xfrm>
            <a:off x="0" y="2498760"/>
            <a:ext cx="121600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Image 2" descr=""/>
          <p:cNvPicPr/>
          <p:nvPr/>
        </p:nvPicPr>
        <p:blipFill>
          <a:blip r:embed="rId1"/>
          <a:stretch/>
        </p:blipFill>
        <p:spPr>
          <a:xfrm>
            <a:off x="0" y="2414520"/>
            <a:ext cx="1222200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Image 2" descr=""/>
          <p:cNvPicPr/>
          <p:nvPr/>
        </p:nvPicPr>
        <p:blipFill>
          <a:blip r:embed="rId1"/>
          <a:stretch/>
        </p:blipFill>
        <p:spPr>
          <a:xfrm>
            <a:off x="0" y="2268360"/>
            <a:ext cx="12190320" cy="16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Image 2" descr=""/>
          <p:cNvPicPr/>
          <p:nvPr/>
        </p:nvPicPr>
        <p:blipFill>
          <a:blip r:embed="rId1"/>
          <a:stretch/>
        </p:blipFill>
        <p:spPr>
          <a:xfrm>
            <a:off x="0" y="2333520"/>
            <a:ext cx="12157200" cy="14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Image 2" descr=""/>
          <p:cNvPicPr/>
          <p:nvPr/>
        </p:nvPicPr>
        <p:blipFill>
          <a:blip r:embed="rId1"/>
          <a:stretch/>
        </p:blipFill>
        <p:spPr>
          <a:xfrm>
            <a:off x="0" y="2171880"/>
            <a:ext cx="1221912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Image 2" descr=""/>
          <p:cNvPicPr/>
          <p:nvPr/>
        </p:nvPicPr>
        <p:blipFill>
          <a:blip r:embed="rId1"/>
          <a:stretch/>
        </p:blipFill>
        <p:spPr>
          <a:xfrm>
            <a:off x="0" y="2233440"/>
            <a:ext cx="12142800" cy="13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10-01T17:46:52Z</dcterms:modified>
  <cp:revision>47</cp:revision>
  <dc:subject/>
  <dc:title>Questions FLASH</dc:title>
</cp:coreProperties>
</file>