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FC44-CB4C-4153-B972-3B0E339CA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AB10-BE22-4E27-9E7A-2BA7227D1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F998-B507-4827-8836-961BC7E5F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4412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00280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44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4412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800280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47AB-7EC4-41F8-9053-C6181F566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22A07-9CB8-48AA-AEFD-B8F77758B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664BA-2F95-421A-88D7-44E4C4727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C618F-C5B9-44D9-98A9-55542E3C0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DBEF0-0469-4055-90B6-A2F8E0F84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4597E-B9F4-4D8C-A8A9-5F4D863D3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95120" y="763560"/>
            <a:ext cx="861084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397D7-D971-4D4B-9976-83AE296EB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5E3E8-DC51-4592-8172-A37915BAA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0C3F-D940-432E-A098-1DCFB3C67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C1E79-09AF-4B08-AD7B-75B7EDB33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047E6-DDE6-4E90-B158-7277DA981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4D14B-F447-4CBF-97E5-2E3F7DBBB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8CCB3-F50D-4C3B-A958-502BC0BBA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34412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00280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44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34412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800280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D9F39-6667-43A7-B342-77B59D93C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094987-BA47-484A-A116-59B3E9D0E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FF3A91-EF15-4F3C-ADD1-306FEC934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C3CDE5-A9A5-42AA-886A-56898389C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A06883-4368-4349-BF7D-AEB0B81F1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D9C6B5-05A9-407F-9365-F9A8F1A26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BC27-CD32-42EA-81A5-76C10CE52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2895120" y="763560"/>
            <a:ext cx="861084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0B0E0E-6D0D-4E40-8A5A-386CFEB79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86D970-8949-4C4C-91BC-DD5BA6AF0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03FFE1-4B1C-4254-B255-499435694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0D6133-1D6B-43AE-8BC5-E5E9071A3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6C8C4B-6F90-464B-9D71-17F39A24A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4776D9-681C-48DD-93B8-BEF4FA333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34412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800280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68544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434412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800280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9FD836-7C63-4D2D-BF6E-DB661143F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BEF7A3-D20E-4372-8C96-742A0260E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0311C4-902C-4B83-914D-28006744B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0B26CC-1F08-4A56-9A23-540F4A598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DEB6-D3E8-4BDC-B5ED-C285CC78A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3927C9-6B2A-4704-9B57-7A8500EE3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BA8E25-6A50-477D-A184-777C100E3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2895120" y="763560"/>
            <a:ext cx="861084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E7219A-4F4F-41D6-AC87-921410242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6E70AA-F169-461F-9DA5-2614882EB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091F11-C9C2-4A36-8398-CE1537A8D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F2BC9C-2FDD-4368-A812-863255222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A137EF-392B-4C01-B188-7D68D41BD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EFC747-0505-438D-8F30-1E46C80EC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34412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800280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68544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434412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800280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FE95F4-E474-483A-8D73-8C56955B4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249B3C-7D17-4D30-951F-C690DF59B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CC63-CAED-4B14-8687-5FDDAA2B0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0CEFA1-8B7E-4584-86FB-1D935059A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A269FE-ECD2-4B21-8774-9E7CEE1AF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7C086E-3976-423B-8D12-0602D71C1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7502B1-474B-46BF-84D4-6C1AFC2E4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2895120" y="763560"/>
            <a:ext cx="861084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CE1C24-7B7A-48E6-A449-43A97F5B1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A36B56-8D73-4160-B116-50AA7B914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613006-591B-4366-9C87-25C4FB8F5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95E318-2E0D-4557-91BC-219D96C73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7C69D9-4BCD-4F32-A799-9B295AF2D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7191ED-F79D-489B-BB1C-24053D1E9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95120" y="763560"/>
            <a:ext cx="861084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5377-3E3E-447F-8D94-3B6F0AE42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34412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800280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68544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434412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800280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60B936-3A42-4E53-B875-A99AA7400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741F40-8602-4040-8EE7-B6BFE3038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4C5476-C457-4163-BDA4-F9ACA30F9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708E6B-87C9-466B-9FA5-650202F7B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B77EE2-E320-4829-A30F-C3D53413E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E357D0-6846-4313-B709-E37B7C5AE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2895120" y="763560"/>
            <a:ext cx="861084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6A799E-B073-48FF-964D-9CA596068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CA8DF9-E188-4C3C-A157-7D82D3A88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B5E4F4-5EC1-497E-B70F-62EAB6E69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35EA6B-1CAF-4520-A7F7-AF88A08A0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8078-9038-4208-A683-41FC402BB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EC6A4F-0D23-488A-87CA-B2E16B25D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72BAE3-E8A0-4DBB-ABD6-A3B563B5B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34412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800280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68544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434412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800280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4E809C-B3FF-45DC-B424-DFD068A6C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BF9592-806A-474A-AD6C-832FCAC95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3027AC-9AC9-4269-9A6F-239E0F978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366634-53CC-44DA-A712-DD1C3B1AD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97886C-2F80-44FE-86A8-791DA1925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A19950-D9BB-4F7C-91ED-057EDD90A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2895120" y="763560"/>
            <a:ext cx="861084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6ADE83-2763-41BD-9A6E-F2B4CD151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849D9B-0E09-45FC-BBE4-28B9D53DA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6EA4-239D-47D0-9E09-56BAF0647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5BFB5A-D8DB-46C4-B31A-8054CBA87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0654F6-0803-454E-8F24-4D8E29315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DAD79C-8545-4688-B0DF-FA4CDADA3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E96F6C-CBFD-47D9-B73C-4310BCC75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34412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800280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68544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434412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800280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68FB94-77AF-4743-BB09-9DB392E18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62E8-787D-4B5C-A60D-6D9AE59C9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C0-HD-TOP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1441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8594640" y="6356520"/>
            <a:ext cx="291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85800" y="6356520"/>
            <a:ext cx="7772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763120" y="38052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1A0286-D416-4B68-A07D-D2C190CC024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C0-HD-TOP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14414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C0-HD-BTM.png"/>
          <p:cNvPicPr/>
          <p:nvPr/>
        </p:nvPicPr>
        <p:blipFill>
          <a:blip r:embed="rId3"/>
          <a:stretch/>
        </p:blipFill>
        <p:spPr>
          <a:xfrm>
            <a:off x="0" y="4375080"/>
            <a:ext cx="12192120" cy="24829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7908840" y="4314960"/>
            <a:ext cx="2911680" cy="37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1371600" y="4324320"/>
            <a:ext cx="6400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8077320" y="143028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E9AE95-6B25-41A9-A1F0-F413EB4499A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7" descr="C0-HD-BTM.png"/>
          <p:cNvPicPr/>
          <p:nvPr/>
        </p:nvPicPr>
        <p:blipFill>
          <a:blip r:embed="rId2"/>
          <a:stretch/>
        </p:blipFill>
        <p:spPr>
          <a:xfrm>
            <a:off x="0" y="4375080"/>
            <a:ext cx="12192120" cy="248292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7813440" y="380520"/>
            <a:ext cx="2911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685800" y="380880"/>
            <a:ext cx="699120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10861200" y="380520"/>
            <a:ext cx="644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250B6A-29DC-4024-8260-FA098793668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7" descr="C0-HD-BTM.png"/>
          <p:cNvPicPr/>
          <p:nvPr/>
        </p:nvPicPr>
        <p:blipFill>
          <a:blip r:embed="rId2"/>
          <a:stretch/>
        </p:blipFill>
        <p:spPr>
          <a:xfrm>
            <a:off x="0" y="4375080"/>
            <a:ext cx="12192120" cy="24829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7813440" y="380520"/>
            <a:ext cx="2911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685800" y="379440"/>
            <a:ext cx="699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2"/>
          </p:nvPr>
        </p:nvSpPr>
        <p:spPr>
          <a:xfrm>
            <a:off x="10861200" y="380520"/>
            <a:ext cx="644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030F96-7ECC-4681-92F1-B17314FB485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7" descr="C0-HD-BTM.png"/>
          <p:cNvPicPr/>
          <p:nvPr/>
        </p:nvPicPr>
        <p:blipFill>
          <a:blip r:embed="rId2"/>
          <a:stretch/>
        </p:blipFill>
        <p:spPr>
          <a:xfrm>
            <a:off x="0" y="4375080"/>
            <a:ext cx="12192120" cy="2482920"/>
          </a:xfrm>
          <a:prstGeom prst="rect">
            <a:avLst/>
          </a:prstGeom>
          <a:ln w="0">
            <a:noFill/>
          </a:ln>
        </p:spPr>
      </p:pic>
      <p:sp>
        <p:nvSpPr>
          <p:cNvPr id="170" name="TextBox 8"/>
          <p:cNvSpPr/>
          <p:nvPr/>
        </p:nvSpPr>
        <p:spPr>
          <a:xfrm>
            <a:off x="476280" y="93348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1" name="TextBox 9"/>
          <p:cNvSpPr/>
          <p:nvPr/>
        </p:nvSpPr>
        <p:spPr>
          <a:xfrm>
            <a:off x="10983960" y="270180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7813440" y="380520"/>
            <a:ext cx="2911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685800" y="379440"/>
            <a:ext cx="699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10861200" y="380520"/>
            <a:ext cx="644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6200D1-73AE-4F22-ABEC-603D0001FD2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7" descr="C0-HD-BTM.png"/>
          <p:cNvPicPr/>
          <p:nvPr/>
        </p:nvPicPr>
        <p:blipFill>
          <a:blip r:embed="rId2"/>
          <a:stretch/>
        </p:blipFill>
        <p:spPr>
          <a:xfrm>
            <a:off x="0" y="4375080"/>
            <a:ext cx="12192120" cy="248292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7813440" y="379440"/>
            <a:ext cx="291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7"/>
          </p:nvPr>
        </p:nvSpPr>
        <p:spPr>
          <a:xfrm>
            <a:off x="685800" y="379440"/>
            <a:ext cx="699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8"/>
          </p:nvPr>
        </p:nvSpPr>
        <p:spPr>
          <a:xfrm>
            <a:off x="10861200" y="380520"/>
            <a:ext cx="644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837AB8-4355-48B4-848F-A68AB0D7021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7" descr="C0-HD-BTM.png"/>
          <p:cNvPicPr/>
          <p:nvPr/>
        </p:nvPicPr>
        <p:blipFill>
          <a:blip r:embed="rId2"/>
          <a:stretch/>
        </p:blipFill>
        <p:spPr>
          <a:xfrm>
            <a:off x="0" y="4375080"/>
            <a:ext cx="12192120" cy="248292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19"/>
          </p:nvPr>
        </p:nvSpPr>
        <p:spPr>
          <a:xfrm>
            <a:off x="7813440" y="379440"/>
            <a:ext cx="291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ftr" idx="20"/>
          </p:nvPr>
        </p:nvSpPr>
        <p:spPr>
          <a:xfrm>
            <a:off x="685800" y="380520"/>
            <a:ext cx="6991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sldNum" idx="21"/>
          </p:nvPr>
        </p:nvSpPr>
        <p:spPr>
          <a:xfrm>
            <a:off x="10861200" y="380520"/>
            <a:ext cx="644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59B356-E40E-47D0-B5E9-B95625D6937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371240" y="1803240"/>
            <a:ext cx="9448920" cy="182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ffff"/>
                </a:solidFill>
                <a:latin typeface="Century Gothic"/>
              </a:rPr>
              <a:t>QUESTIONS FLASH</a:t>
            </a:r>
            <a:endParaRPr b="0" lang="en-US" sz="6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1371240" y="3631680"/>
            <a:ext cx="94489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entury Gothic"/>
              </a:rPr>
              <a:t>Géométrie mentale , calcul mental, et algorithmique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ZoneTexte 2"/>
          <p:cNvSpPr/>
          <p:nvPr/>
        </p:nvSpPr>
        <p:spPr>
          <a:xfrm>
            <a:off x="7702200" y="863640"/>
            <a:ext cx="4109760" cy="520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Baskerville Old Face"/>
              </a:rPr>
              <a:t>Lundi 02 Octobre 2017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ZoneTexte 3"/>
          <p:cNvSpPr/>
          <p:nvPr/>
        </p:nvSpPr>
        <p:spPr>
          <a:xfrm>
            <a:off x="9942120" y="253692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Century Gothic"/>
              </a:rPr>
              <a:t>5eme DAKAR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ZoneTexte 5"/>
          <p:cNvSpPr/>
          <p:nvPr/>
        </p:nvSpPr>
        <p:spPr>
          <a:xfrm>
            <a:off x="9901800" y="296244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Century Gothic"/>
              </a:rPr>
              <a:t>5eme PRETORIA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580920" y="14292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Century Gothic"/>
              </a:rPr>
              <a:t>QUESTION 9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19" name="Image 2" descr=""/>
          <p:cNvPicPr/>
          <p:nvPr/>
        </p:nvPicPr>
        <p:blipFill>
          <a:blip r:embed="rId1"/>
          <a:stretch/>
        </p:blipFill>
        <p:spPr>
          <a:xfrm>
            <a:off x="0" y="1766880"/>
            <a:ext cx="12236400" cy="168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580920" y="14292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Century Gothic"/>
              </a:rPr>
              <a:t>QUESTION 10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21" name="Image 3" descr=""/>
          <p:cNvPicPr/>
          <p:nvPr/>
        </p:nvPicPr>
        <p:blipFill>
          <a:blip r:embed="rId1"/>
          <a:stretch/>
        </p:blipFill>
        <p:spPr>
          <a:xfrm>
            <a:off x="0" y="1762200"/>
            <a:ext cx="12234960" cy="168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Century Gothic"/>
              </a:rPr>
              <a:t>FIN DU FLASH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23" name="Picture 5" descr=""/>
          <p:cNvPicPr/>
          <p:nvPr/>
        </p:nvPicPr>
        <p:blipFill>
          <a:blip r:embed="rId1"/>
          <a:stretch/>
        </p:blipFill>
        <p:spPr>
          <a:xfrm>
            <a:off x="941400" y="511200"/>
            <a:ext cx="5952960" cy="610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580920" y="14292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Century Gothic"/>
              </a:rPr>
              <a:t>QUESTION 1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03" name="Image 3" descr=""/>
          <p:cNvPicPr/>
          <p:nvPr/>
        </p:nvPicPr>
        <p:blipFill>
          <a:blip r:embed="rId1"/>
          <a:stretch/>
        </p:blipFill>
        <p:spPr>
          <a:xfrm>
            <a:off x="0" y="1436760"/>
            <a:ext cx="12165120" cy="287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580920" y="14292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Century Gothic"/>
              </a:rPr>
              <a:t>QUESTION 2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05" name="Image 2" descr=""/>
          <p:cNvPicPr/>
          <p:nvPr/>
        </p:nvPicPr>
        <p:blipFill>
          <a:blip r:embed="rId1"/>
          <a:stretch/>
        </p:blipFill>
        <p:spPr>
          <a:xfrm>
            <a:off x="0" y="1436760"/>
            <a:ext cx="12176280" cy="247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580920" y="14292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Century Gothic"/>
              </a:rPr>
              <a:t>QUESTION 3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07" name="Image 2" descr=""/>
          <p:cNvPicPr/>
          <p:nvPr/>
        </p:nvPicPr>
        <p:blipFill>
          <a:blip r:embed="rId1"/>
          <a:stretch/>
        </p:blipFill>
        <p:spPr>
          <a:xfrm>
            <a:off x="0" y="1436760"/>
            <a:ext cx="12165120" cy="203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580920" y="14292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Century Gothic"/>
              </a:rPr>
              <a:t>QUESTION 4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09" name="Image 2" descr=""/>
          <p:cNvPicPr/>
          <p:nvPr/>
        </p:nvPicPr>
        <p:blipFill>
          <a:blip r:embed="rId1"/>
          <a:stretch/>
        </p:blipFill>
        <p:spPr>
          <a:xfrm>
            <a:off x="0" y="1657440"/>
            <a:ext cx="12192120" cy="192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580920" y="14292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Century Gothic"/>
              </a:rPr>
              <a:t>QUESTION 5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11" name="Image 2" descr=""/>
          <p:cNvPicPr/>
          <p:nvPr/>
        </p:nvPicPr>
        <p:blipFill>
          <a:blip r:embed="rId1"/>
          <a:stretch/>
        </p:blipFill>
        <p:spPr>
          <a:xfrm>
            <a:off x="0" y="1665360"/>
            <a:ext cx="12155400" cy="192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580920" y="14292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Century Gothic"/>
              </a:rPr>
              <a:t>QUESTION 6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13" name="Image 2" descr=""/>
          <p:cNvPicPr/>
          <p:nvPr/>
        </p:nvPicPr>
        <p:blipFill>
          <a:blip r:embed="rId1"/>
          <a:stretch/>
        </p:blipFill>
        <p:spPr>
          <a:xfrm>
            <a:off x="0" y="1601640"/>
            <a:ext cx="12171240" cy="183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580920" y="14292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Century Gothic"/>
              </a:rPr>
              <a:t>QUESTION 7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15" name="Image 2" descr=""/>
          <p:cNvPicPr/>
          <p:nvPr/>
        </p:nvPicPr>
        <p:blipFill>
          <a:blip r:embed="rId1"/>
          <a:stretch/>
        </p:blipFill>
        <p:spPr>
          <a:xfrm>
            <a:off x="0" y="1849320"/>
            <a:ext cx="12187080" cy="177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580920" y="14292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Century Gothic"/>
              </a:rPr>
              <a:t>QUESTION 8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17" name="Image 2" descr=""/>
          <p:cNvPicPr/>
          <p:nvPr/>
        </p:nvPicPr>
        <p:blipFill>
          <a:blip r:embed="rId1"/>
          <a:stretch/>
        </p:blipFill>
        <p:spPr>
          <a:xfrm>
            <a:off x="0" y="1951200"/>
            <a:ext cx="12168360" cy="1552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20T23:07:47Z</dcterms:created>
  <dc:creator>françois FATOUX</dc:creator>
  <dc:description/>
  <dc:language>en-US</dc:language>
  <cp:lastModifiedBy>françois FATOUX</cp:lastModifiedBy>
  <dcterms:modified xsi:type="dcterms:W3CDTF">2017-10-01T17:43:07Z</dcterms:modified>
  <cp:revision>47</cp:revision>
  <dc:subject/>
  <dc:title>Questions FLASH</dc:title>
</cp:coreProperties>
</file>