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57C-F23D-41A4-98FF-2F6AA6D2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0A7-C794-4214-AC7C-85DE8EFF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CEB-1B41-4A2D-B7DA-093C3621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DC2-1046-4209-9820-15004D7C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6B69-50F6-4A30-B759-95616466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013B-3702-431D-94AB-D6D7015C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ACEB-DC0E-4F7B-80E1-0A037C1E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3D70-BAB2-48CE-927F-8EF0A0C8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A7C2-6A49-4E14-A878-655FFB9C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5BF8-403F-49B4-ADFA-86906855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3ADB-0C57-4A5F-90C8-A377CEB2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55C-B9F4-4DA3-9B12-D96D54A4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BBF1-997A-4EF2-BD89-D844BBAB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803B-09F6-4A2D-A6B5-73A598A1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E989-453A-45F1-BE35-B64068F1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C55E-0B92-486A-A68E-B1F7DFB2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6633-A0E9-4C6C-B6C7-467724C9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E75B4-A7DF-4020-BAF6-6BAF2646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4CF8C-1D45-47E5-B494-E055F11E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22692-E3C4-4490-BBE3-872BBE8B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EF94-B72B-456E-BFA5-A6DC0197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8C02C-1C68-4A99-8620-8F8E767C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E0E-4E01-498E-8FAE-27A40617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F15D-9F6F-4012-A56F-B43315D0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7ED2-9B0A-4962-9CAA-FC74B271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B688D-4089-46B7-A305-752781D7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819F-8E35-4902-8A48-66FDA418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AAB0A-2126-4BDD-A955-D3593CDF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10A7-F210-4C4B-AB62-DB955BA0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0A13-26F7-4CB0-A0B4-7B5B0414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A8EB3-021F-41F7-8CE9-26C0586F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E996A-D86F-4495-9701-22B0DE87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821C6-C2AE-48B9-BF66-6A342808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10D-71C8-48D8-8D68-2BD6F4BA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11E34-C1A9-4A96-AE41-1814EB53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F816-7AEC-4083-80BC-EAD565EF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D8801-114C-4E61-8F7B-A43B1F92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5B008-7F23-4984-8557-38B7D71F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6EDDF-D4E8-4BA4-97B2-178499A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986A-710E-4536-8A7E-4D724AD9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E8531-4B48-47AA-812C-2F5F3F18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130E7-85CA-414F-B256-1CB5F1C1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C7C34-8072-40B3-8C77-2F3206BB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A25B1-9CE9-47FA-834F-17EC093A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EF8-F11D-487E-B88E-5FBBB878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3B68B-5DBD-475F-A5A0-39E2AF70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87CA0-7241-4CE9-B7B8-8F363872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9EA3B-661C-4116-B6F9-02EA9829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B3E15-D44F-45DB-B90A-E1ED7AD9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C6959-64DB-4238-ADF9-6ECE7EC7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BF313-5EDE-48F8-8193-49394094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7A894-B5B6-4CA0-B735-3E5C9E98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470B1-09C0-4C20-A9D6-08B643A0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C27F1-B66A-4208-AAD8-1697BF0C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B4E59-BB88-44A0-A824-CEF9B37D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00B-1636-430F-9929-4A63EFBC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20041-51E1-468D-9A90-51DDD06B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60AC7-3DE0-4F6C-804D-243ED0C7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BCA8E-8C7D-4CE6-9C3D-702D1CB4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0C6F3-7002-4371-8A50-64DF942D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1BB29-A0C1-48F2-BA6A-D2F13B0F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25A88-E638-4BFE-B5D3-FBC8A491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D004A-A594-4DD0-8E6E-29238BD1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096CC-CE3F-46D3-AE9B-E6470A9D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8FC30-521A-4BD0-8D4A-1934F0B3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2618B-B88F-40E7-BDAB-BF9CC6D2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24F-9B5A-4A88-BB41-BEAED41D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5A851-C58F-4505-8003-EF13F461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24A4A-8D82-4911-833B-93F7567F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52AEC-8190-413E-BFD9-00446B2F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B3B2E-C549-4CC9-91C5-6C2A7A70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59AC6-DA93-45FC-8CB2-9BB769B2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6A0D3-0B1A-430F-81B1-04E3224A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A193E-313C-40E5-ABB1-86B80FE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140C4-C801-4058-82CF-F523F617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4DB8E-6FA0-4FE5-93D2-D1E14C78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E987A-9B1C-47E2-A1FD-7AC54DD2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A7B-719E-4278-9284-F20C21D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008EB-DA75-4224-9248-7124B9FC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8197B-E127-450B-AF7F-806D599F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E88A3-7480-402D-9091-AC825FDB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A4A32-D486-4685-A7A8-3A9B1DF2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1D88F-435A-4D0F-BE67-10C1908F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B45-F1D9-48A2-917F-FA9221B7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F3E1B-FFD1-43B5-92E2-FCC398FFC5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5C699-B30D-4F21-9B19-6BBE275318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B4A2C-7160-4673-A03F-6CC1DA6F7C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B25ED-E5D2-4686-A68E-50ABF74058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2F2F8-9E6A-4D8F-941C-A0287AA7D8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9C57A-C870-491B-9D6C-98F91CD598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68F8F-90A9-4E30-842A-0DE28BC691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628400" y="863640"/>
            <a:ext cx="46141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Lundi 25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42120" y="2536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01800" y="2962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1" name="Image 2" descr=""/>
          <p:cNvPicPr/>
          <p:nvPr/>
        </p:nvPicPr>
        <p:blipFill>
          <a:blip r:embed="rId1"/>
          <a:stretch/>
        </p:blipFill>
        <p:spPr>
          <a:xfrm>
            <a:off x="3043080" y="1870200"/>
            <a:ext cx="9149040" cy="4248000"/>
          </a:xfrm>
          <a:prstGeom prst="rect">
            <a:avLst/>
          </a:prstGeom>
          <a:ln w="0">
            <a:noFill/>
          </a:ln>
        </p:spPr>
      </p:pic>
      <p:sp>
        <p:nvSpPr>
          <p:cNvPr id="332" name="ZoneTexte 4"/>
          <p:cNvSpPr/>
          <p:nvPr/>
        </p:nvSpPr>
        <p:spPr>
          <a:xfrm>
            <a:off x="27720" y="1346040"/>
            <a:ext cx="63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Quel est le volume du grand cube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ZoneTexte 6"/>
          <p:cNvSpPr/>
          <p:nvPr/>
        </p:nvSpPr>
        <p:spPr>
          <a:xfrm>
            <a:off x="18360" y="2206800"/>
            <a:ext cx="255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9 cub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ZoneTexte 7"/>
          <p:cNvSpPr/>
          <p:nvPr/>
        </p:nvSpPr>
        <p:spPr>
          <a:xfrm>
            <a:off x="-14040" y="3527280"/>
            <a:ext cx="2549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100 cub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40320" y="4883040"/>
            <a:ext cx="253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27 cub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7" name="Image 2" descr=""/>
          <p:cNvPicPr/>
          <p:nvPr/>
        </p:nvPicPr>
        <p:blipFill>
          <a:blip r:embed="rId1"/>
          <a:stretch/>
        </p:blipFill>
        <p:spPr>
          <a:xfrm>
            <a:off x="8334360" y="1346040"/>
            <a:ext cx="3857760" cy="3248280"/>
          </a:xfrm>
          <a:prstGeom prst="rect">
            <a:avLst/>
          </a:prstGeom>
          <a:ln w="0">
            <a:noFill/>
          </a:ln>
        </p:spPr>
      </p:pic>
      <p:pic>
        <p:nvPicPr>
          <p:cNvPr id="338" name="Image 3" descr=""/>
          <p:cNvPicPr/>
          <p:nvPr/>
        </p:nvPicPr>
        <p:blipFill>
          <a:blip r:embed="rId2"/>
          <a:stretch/>
        </p:blipFill>
        <p:spPr>
          <a:xfrm>
            <a:off x="2460600" y="2419200"/>
            <a:ext cx="5708520" cy="3791160"/>
          </a:xfrm>
          <a:prstGeom prst="rect">
            <a:avLst/>
          </a:prstGeom>
          <a:ln w="0">
            <a:noFill/>
          </a:ln>
        </p:spPr>
      </p:pic>
      <p:sp>
        <p:nvSpPr>
          <p:cNvPr id="339" name="ZoneTexte 5"/>
          <p:cNvSpPr/>
          <p:nvPr/>
        </p:nvSpPr>
        <p:spPr>
          <a:xfrm>
            <a:off x="-5400" y="1346040"/>
            <a:ext cx="59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Quel est le bloc qui a été flouté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Image 4" descr=""/>
          <p:cNvPicPr/>
          <p:nvPr/>
        </p:nvPicPr>
        <p:blipFill>
          <a:blip r:embed="rId3"/>
          <a:stretch/>
        </p:blipFill>
        <p:spPr>
          <a:xfrm>
            <a:off x="8169120" y="4594320"/>
            <a:ext cx="4023000" cy="1616040"/>
          </a:xfrm>
          <a:prstGeom prst="rect">
            <a:avLst/>
          </a:prstGeom>
          <a:ln w="0">
            <a:noFill/>
          </a:ln>
        </p:spPr>
      </p:pic>
      <p:pic>
        <p:nvPicPr>
          <p:cNvPr id="341" name="Image 6" descr=""/>
          <p:cNvPicPr/>
          <p:nvPr/>
        </p:nvPicPr>
        <p:blipFill>
          <a:blip r:embed="rId4"/>
          <a:stretch/>
        </p:blipFill>
        <p:spPr>
          <a:xfrm>
            <a:off x="-23760" y="2558880"/>
            <a:ext cx="2374920" cy="481320"/>
          </a:xfrm>
          <a:prstGeom prst="rect">
            <a:avLst/>
          </a:prstGeom>
          <a:ln w="0">
            <a:noFill/>
          </a:ln>
        </p:spPr>
      </p:pic>
      <p:pic>
        <p:nvPicPr>
          <p:cNvPr id="342" name="Image 7" descr=""/>
          <p:cNvPicPr/>
          <p:nvPr/>
        </p:nvPicPr>
        <p:blipFill>
          <a:blip r:embed="rId5"/>
          <a:stretch/>
        </p:blipFill>
        <p:spPr>
          <a:xfrm>
            <a:off x="0" y="4054320"/>
            <a:ext cx="2374920" cy="486000"/>
          </a:xfrm>
          <a:prstGeom prst="rect">
            <a:avLst/>
          </a:prstGeom>
          <a:ln w="0">
            <a:noFill/>
          </a:ln>
        </p:spPr>
      </p:pic>
      <p:pic>
        <p:nvPicPr>
          <p:cNvPr id="343" name="Image 8" descr=""/>
          <p:cNvPicPr/>
          <p:nvPr/>
        </p:nvPicPr>
        <p:blipFill>
          <a:blip r:embed="rId6"/>
          <a:stretch/>
        </p:blipFill>
        <p:spPr>
          <a:xfrm>
            <a:off x="0" y="5648400"/>
            <a:ext cx="2374920" cy="428400"/>
          </a:xfrm>
          <a:prstGeom prst="rect">
            <a:avLst/>
          </a:prstGeom>
          <a:ln w="0">
            <a:noFill/>
          </a:ln>
        </p:spPr>
      </p:pic>
      <p:sp>
        <p:nvSpPr>
          <p:cNvPr id="344" name="ZoneTexte 9"/>
          <p:cNvSpPr/>
          <p:nvPr/>
        </p:nvSpPr>
        <p:spPr>
          <a:xfrm>
            <a:off x="-75240" y="1920960"/>
            <a:ext cx="25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ZoneTexte 11"/>
          <p:cNvSpPr/>
          <p:nvPr/>
        </p:nvSpPr>
        <p:spPr>
          <a:xfrm>
            <a:off x="-82440" y="341784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ZoneTexte 12"/>
          <p:cNvSpPr/>
          <p:nvPr/>
        </p:nvSpPr>
        <p:spPr>
          <a:xfrm>
            <a:off x="-78840" y="500220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Image 3" descr=""/>
          <p:cNvPicPr/>
          <p:nvPr/>
        </p:nvPicPr>
        <p:blipFill>
          <a:blip r:embed="rId1"/>
          <a:stretch/>
        </p:blipFill>
        <p:spPr>
          <a:xfrm>
            <a:off x="0" y="1436760"/>
            <a:ext cx="12220560" cy="39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Image 3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77720" cy="40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219120" cy="41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220560" cy="40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212640" cy="42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Image 2" descr=""/>
          <p:cNvPicPr/>
          <p:nvPr/>
        </p:nvPicPr>
        <p:blipFill>
          <a:blip r:embed="rId1"/>
          <a:stretch/>
        </p:blipFill>
        <p:spPr>
          <a:xfrm>
            <a:off x="4702320" y="1960560"/>
            <a:ext cx="7451640" cy="4587840"/>
          </a:xfrm>
          <a:prstGeom prst="rect">
            <a:avLst/>
          </a:prstGeom>
          <a:ln w="0">
            <a:noFill/>
          </a:ln>
        </p:spPr>
      </p:pic>
      <p:sp>
        <p:nvSpPr>
          <p:cNvPr id="314" name="ZoneTexte 4"/>
          <p:cNvSpPr/>
          <p:nvPr/>
        </p:nvSpPr>
        <p:spPr>
          <a:xfrm>
            <a:off x="-28440" y="143676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Quelle est l’aire du rectangle suivant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ZoneTexte 5"/>
          <p:cNvSpPr/>
          <p:nvPr/>
        </p:nvSpPr>
        <p:spPr>
          <a:xfrm>
            <a:off x="18360" y="1960560"/>
            <a:ext cx="255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8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ZoneTexte 6"/>
          <p:cNvSpPr/>
          <p:nvPr/>
        </p:nvSpPr>
        <p:spPr>
          <a:xfrm>
            <a:off x="-14040" y="3144960"/>
            <a:ext cx="2549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6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ZoneTexte 7"/>
          <p:cNvSpPr/>
          <p:nvPr/>
        </p:nvSpPr>
        <p:spPr>
          <a:xfrm>
            <a:off x="53640" y="4351320"/>
            <a:ext cx="2562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12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Image 2" descr=""/>
          <p:cNvPicPr/>
          <p:nvPr/>
        </p:nvPicPr>
        <p:blipFill>
          <a:blip r:embed="rId1"/>
          <a:stretch/>
        </p:blipFill>
        <p:spPr>
          <a:xfrm>
            <a:off x="6467400" y="1436760"/>
            <a:ext cx="5432400" cy="5170320"/>
          </a:xfrm>
          <a:prstGeom prst="rect">
            <a:avLst/>
          </a:prstGeom>
          <a:ln w="0">
            <a:noFill/>
          </a:ln>
        </p:spPr>
      </p:pic>
      <p:sp>
        <p:nvSpPr>
          <p:cNvPr id="320" name="ZoneTexte 3"/>
          <p:cNvSpPr/>
          <p:nvPr/>
        </p:nvSpPr>
        <p:spPr>
          <a:xfrm>
            <a:off x="-71640" y="1436760"/>
            <a:ext cx="66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Quelle est l’aire du triangle suivant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ZoneTexte 5"/>
          <p:cNvSpPr/>
          <p:nvPr/>
        </p:nvSpPr>
        <p:spPr>
          <a:xfrm>
            <a:off x="18360" y="1960560"/>
            <a:ext cx="255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3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ZoneTexte 6"/>
          <p:cNvSpPr/>
          <p:nvPr/>
        </p:nvSpPr>
        <p:spPr>
          <a:xfrm>
            <a:off x="-14040" y="3144960"/>
            <a:ext cx="2549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9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ZoneTexte 7"/>
          <p:cNvSpPr/>
          <p:nvPr/>
        </p:nvSpPr>
        <p:spPr>
          <a:xfrm>
            <a:off x="-3960" y="4351320"/>
            <a:ext cx="2678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4,5 carreaux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Image 2" descr=""/>
          <p:cNvPicPr/>
          <p:nvPr/>
        </p:nvPicPr>
        <p:blipFill>
          <a:blip r:embed="rId1"/>
          <a:stretch/>
        </p:blipFill>
        <p:spPr>
          <a:xfrm>
            <a:off x="5770440" y="1782720"/>
            <a:ext cx="6086520" cy="4734000"/>
          </a:xfrm>
          <a:prstGeom prst="rect">
            <a:avLst/>
          </a:prstGeom>
          <a:ln w="0">
            <a:noFill/>
          </a:ln>
        </p:spPr>
      </p:pic>
      <p:sp>
        <p:nvSpPr>
          <p:cNvPr id="326" name="ZoneTexte 4"/>
          <p:cNvSpPr/>
          <p:nvPr/>
        </p:nvSpPr>
        <p:spPr>
          <a:xfrm>
            <a:off x="32760" y="1436760"/>
            <a:ext cx="56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À 18h le niveau sonore est de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ZoneTexte 6"/>
          <p:cNvSpPr/>
          <p:nvPr/>
        </p:nvSpPr>
        <p:spPr>
          <a:xfrm>
            <a:off x="18360" y="1960560"/>
            <a:ext cx="255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50 Décibel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ZoneTexte 7"/>
          <p:cNvSpPr/>
          <p:nvPr/>
        </p:nvSpPr>
        <p:spPr>
          <a:xfrm>
            <a:off x="-14040" y="3295800"/>
            <a:ext cx="2549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80 Décibel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ZoneTexte 8"/>
          <p:cNvSpPr/>
          <p:nvPr/>
        </p:nvSpPr>
        <p:spPr>
          <a:xfrm>
            <a:off x="40320" y="4664160"/>
            <a:ext cx="253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Century Gothic"/>
              </a:rPr>
              <a:t>Réponse 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askerville Old Face"/>
              </a:rPr>
              <a:t>30 Décibel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09-23T14:59:57Z</dcterms:modified>
  <cp:revision>45</cp:revision>
  <dc:subject/>
  <dc:title>Questions FLASH</dc:title>
</cp:coreProperties>
</file>