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ED61-47C2-4D8C-98AE-4120731E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B870-310B-448A-AF35-0903935B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1777-75CF-42E7-B812-03C293B4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F142-E93F-45DA-8471-66A95770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D046-C771-4A17-B12C-32DB886D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4060-6473-4FC0-B3DB-FFCC4332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C40A-2637-4875-85BD-E5CAF6E6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C636-9B11-4C83-BDD9-46DCBCF9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696F-779A-4E60-B151-FCE2A354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AA95-BB77-4239-9C03-06C7E310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7CF7-3B0A-44E0-BB45-2203ABC4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AE9B-19C6-48EF-AED4-292B70BE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E15F-153B-46CE-A028-0E796A24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676E-282F-4151-BA5F-9FA8DEBF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E9B8-2BC6-42C0-9B3A-A778875D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4988-A141-4A6F-B95E-1FAA0F7A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6628-0D84-44B3-B3F2-B1296992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CBC2A-BC42-4387-8D5A-32A454151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23D10-8CCF-4F70-B9F4-2EBBFC7F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095A1-C121-470D-8E6D-608ECBC4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DBCC4-EF66-46FC-87FD-A8596980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B94FC-3E0E-447E-93D1-13BFB21E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D1E6-6B1D-4DA0-9C21-7EDFD66B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2184B-5327-421C-B19E-9B2164B6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4F209-8358-4427-BFFC-B3F36CE8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C67A1-7160-48E1-8BBE-20758065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8DF06-0046-46A7-B058-B5796009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F0F78-C34D-41D7-8BEC-1E68EFE4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D538F-B5AA-4608-92FF-4D980FC6E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AD010-A6D7-486D-BA64-2C383D54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11960-B49F-4D2E-9653-A719B6E9A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3DB26-C92D-4B89-90BE-15C08E9E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FF0A6-A0F0-408C-94C2-B41C231F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B1F5-4DAE-45B4-B375-7F719679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0E56C-5F69-4897-A9B5-106FA7B0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05DE2-B085-4A05-A8A6-F7C06CEF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7C327-DD49-43E3-BF40-5B7D2ADC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EEC91-3096-4462-A918-C7B75D3A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2F9A7-8F71-4AFA-95DE-885F16C6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DAA6C-D585-478E-BC77-5850730F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AB3B0-7EBB-40C6-8F1C-E915F29D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1256F-7016-4756-B601-857CB30D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34836-0F1B-4985-81E9-7B890536D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33958-9D83-40DA-9CE1-9F01EC151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853E-E77B-4FB4-9FD1-5B57383A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5013C-0F87-4F24-A2B5-5ACEB04A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29176-8659-49ED-9A1E-F68A3130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DFC48-D487-4233-8D41-DA091A68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7F042-D309-4456-B9DD-6EC99750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4D96C-5B03-4F68-9534-24799730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E7B0D-0744-4937-AE5E-38B07348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E8DE0-BF49-44A4-97BA-14DCBF8A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3028E-C9A5-4D9D-832D-D4217F81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BF9F9-0D97-4C27-A787-275BF89A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0738B-FDC8-4372-B2F8-582D856E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1309-D39C-4D6F-837C-B0F248CB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31E0E-376B-453B-B9F3-1CC6A95E9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6DC51-3E9D-42A5-8F03-5AF7E407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AAB64-39CB-40E5-A0CF-483FB5B1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D4C9E-81D2-4570-9702-3BFFE597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A0175-B660-4163-8A34-F23C73E8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7439A-FEBB-45CD-BF07-9A96F8E5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11C2B-93FE-44F2-87F1-238E758F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637D7-AC9F-49D6-9AFD-20482CA7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E8507-3836-4CF8-8690-21CF894D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91DEE-1254-4FC8-9E56-10BF349A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0E96-A2C9-4FAD-B50C-21A8FEF4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90BE9-1F2E-41AD-97D6-6E90BDD4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F4E3D-D164-4490-8948-9B5046E5E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323EF-2238-4FA8-A3FD-CE4945FD3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DAA0D-218D-4A52-8686-B56AF652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74554-0F41-428D-B05C-78E727BB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D4FAD-0727-4E38-8C22-C3D3083C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472B7-8B7D-434B-A7B8-B725A14C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E2FAA-0BC4-43D4-AFB4-3CF3312B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A690A-FDE0-497E-8CFE-6C4CBEEA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61C35-2DB0-4A35-8A1B-5E8CC950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1317-1CA7-4A19-BCEC-A242F564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740BA-6A93-4407-878C-EE2DDC0A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C6B9D-BB8D-4CCC-B12C-50856056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1E121-8D0A-443A-AC44-80E370CB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6B80E-332C-4AEB-B58E-78320B4A0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1591D-D975-43CE-9702-9597E5DD0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1076-83D2-4D5A-95F9-A0ED1DA3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94640" y="6356520"/>
            <a:ext cx="291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800" y="6356520"/>
            <a:ext cx="777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63120" y="38052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6A3814-8558-474F-BC1F-0C462ACA94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0-HD-BTM.png"/>
          <p:cNvPicPr/>
          <p:nvPr/>
        </p:nvPicPr>
        <p:blipFill>
          <a:blip r:embed="rId3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908840" y="4314960"/>
            <a:ext cx="2911680" cy="3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1371600" y="4324320"/>
            <a:ext cx="640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077320" y="1430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EA9ABA-186D-4C9A-9BC2-B3F62485DD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685800" y="380880"/>
            <a:ext cx="6991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E1F596-404A-427E-8891-962F239A7B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B9CC93-78FE-474C-860E-17D33CFCE7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476280" y="93348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10983960" y="270180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74D416-F416-4186-93BC-CC6303D5DC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813440" y="379440"/>
            <a:ext cx="291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DDA1A0-0457-4F28-AE31-9DFB9489A8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7813440" y="379440"/>
            <a:ext cx="291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685800" y="380520"/>
            <a:ext cx="699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8C7DA8-CBA9-48A1-B803-80B95F74B0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1803240"/>
            <a:ext cx="9448920" cy="18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Century Gothic"/>
              </a:rPr>
              <a:t>QUESTIONS FLASH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71240" y="3631680"/>
            <a:ext cx="9448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entury Gothic"/>
              </a:rPr>
              <a:t>Géométrie mentale , calcul mental, et algorithmiqu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ZoneTexte 2"/>
          <p:cNvSpPr/>
          <p:nvPr/>
        </p:nvSpPr>
        <p:spPr>
          <a:xfrm>
            <a:off x="7330320" y="912960"/>
            <a:ext cx="5208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Baskerville Old Face"/>
              </a:rPr>
              <a:t>Mercredi 27 Septembre 2017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ZoneTexte 3"/>
          <p:cNvSpPr/>
          <p:nvPr/>
        </p:nvSpPr>
        <p:spPr>
          <a:xfrm>
            <a:off x="9942120" y="25369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entury Gothic"/>
              </a:rPr>
              <a:t>5eme DAKAR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ZoneTexte 5"/>
          <p:cNvSpPr/>
          <p:nvPr/>
        </p:nvSpPr>
        <p:spPr>
          <a:xfrm>
            <a:off x="9901800" y="296244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entury Gothic"/>
              </a:rPr>
              <a:t>5eme PRETOR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9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9" name="Image 2" descr=""/>
          <p:cNvPicPr/>
          <p:nvPr/>
        </p:nvPicPr>
        <p:blipFill>
          <a:blip r:embed="rId1"/>
          <a:stretch/>
        </p:blipFill>
        <p:spPr>
          <a:xfrm>
            <a:off x="0" y="2401920"/>
            <a:ext cx="12185640" cy="157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10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1" name="Image 2" descr=""/>
          <p:cNvPicPr/>
          <p:nvPr/>
        </p:nvPicPr>
        <p:blipFill>
          <a:blip r:embed="rId1"/>
          <a:stretch/>
        </p:blipFill>
        <p:spPr>
          <a:xfrm>
            <a:off x="0" y="2952720"/>
            <a:ext cx="12241080" cy="12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FIN DU FLASH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3" name="Picture 5" descr=""/>
          <p:cNvPicPr/>
          <p:nvPr/>
        </p:nvPicPr>
        <p:blipFill>
          <a:blip r:embed="rId1"/>
          <a:stretch/>
        </p:blipFill>
        <p:spPr>
          <a:xfrm>
            <a:off x="941400" y="511200"/>
            <a:ext cx="5952960" cy="61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1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3" name="Image 2" descr=""/>
          <p:cNvPicPr/>
          <p:nvPr/>
        </p:nvPicPr>
        <p:blipFill>
          <a:blip r:embed="rId1"/>
          <a:stretch/>
        </p:blipFill>
        <p:spPr>
          <a:xfrm>
            <a:off x="0" y="2255760"/>
            <a:ext cx="12249000" cy="17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2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5" name="Image 2" descr=""/>
          <p:cNvPicPr/>
          <p:nvPr/>
        </p:nvPicPr>
        <p:blipFill>
          <a:blip r:embed="rId1"/>
          <a:stretch/>
        </p:blipFill>
        <p:spPr>
          <a:xfrm>
            <a:off x="0" y="2373480"/>
            <a:ext cx="12166560" cy="182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3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Image 2" descr=""/>
          <p:cNvPicPr/>
          <p:nvPr/>
        </p:nvPicPr>
        <p:blipFill>
          <a:blip r:embed="rId1"/>
          <a:stretch/>
        </p:blipFill>
        <p:spPr>
          <a:xfrm>
            <a:off x="0" y="3056040"/>
            <a:ext cx="12196800" cy="15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4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9" name="Image 2" descr=""/>
          <p:cNvPicPr/>
          <p:nvPr/>
        </p:nvPicPr>
        <p:blipFill>
          <a:blip r:embed="rId1"/>
          <a:stretch/>
        </p:blipFill>
        <p:spPr>
          <a:xfrm>
            <a:off x="0" y="2374920"/>
            <a:ext cx="12190320" cy="142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5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1" name="Image 2" descr=""/>
          <p:cNvPicPr/>
          <p:nvPr/>
        </p:nvPicPr>
        <p:blipFill>
          <a:blip r:embed="rId1"/>
          <a:stretch/>
        </p:blipFill>
        <p:spPr>
          <a:xfrm>
            <a:off x="0" y="2179800"/>
            <a:ext cx="12241080" cy="160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6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3" name="Image 2" descr=""/>
          <p:cNvPicPr/>
          <p:nvPr/>
        </p:nvPicPr>
        <p:blipFill>
          <a:blip r:embed="rId1"/>
          <a:stretch/>
        </p:blipFill>
        <p:spPr>
          <a:xfrm>
            <a:off x="0" y="2276640"/>
            <a:ext cx="12209400" cy="133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7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5" name="Image 2" descr=""/>
          <p:cNvPicPr/>
          <p:nvPr/>
        </p:nvPicPr>
        <p:blipFill>
          <a:blip r:embed="rId1"/>
          <a:stretch/>
        </p:blipFill>
        <p:spPr>
          <a:xfrm>
            <a:off x="0" y="2239920"/>
            <a:ext cx="12228480" cy="15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8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7" name="Image 2" descr=""/>
          <p:cNvPicPr/>
          <p:nvPr/>
        </p:nvPicPr>
        <p:blipFill>
          <a:blip r:embed="rId1"/>
          <a:stretch/>
        </p:blipFill>
        <p:spPr>
          <a:xfrm>
            <a:off x="0" y="2182680"/>
            <a:ext cx="12200040" cy="1578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0T23:07:47Z</dcterms:created>
  <dc:creator>françois FATOUX</dc:creator>
  <dc:description/>
  <dc:language>en-US</dc:language>
  <cp:lastModifiedBy>françois FATOUX</cp:lastModifiedBy>
  <dcterms:modified xsi:type="dcterms:W3CDTF">2017-10-01T17:50:30Z</dcterms:modified>
  <cp:revision>81</cp:revision>
  <dc:subject/>
  <dc:title>Questions FLASH</dc:title>
</cp:coreProperties>
</file>