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884-4E71-4F59-9DD8-732B9384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40A-BC09-4EF6-93F0-CD2CAA13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992-79DF-4168-99E1-FFA485C4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117-CFA8-4D5B-9023-ACDC71A5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E412-46C0-428F-B431-F052C605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9155-EC35-44C9-9E54-19061E55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D43F-FCB7-42A7-A5D0-3C29A1F0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54B4-206A-4778-B07B-F029CF29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5758-A42A-4DCA-AAA0-220B0992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D287-2FEA-4E8B-9A7C-B55B7494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7228-EF24-49DF-AAD9-55482BB7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0E2-CF68-447C-B44C-3B8AA85A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C070-9E58-4B71-B450-657B5452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C52F-40A4-44FF-9E73-984F2712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CA5F-2CD8-48F2-896F-727CD093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EE59-7E89-4CFE-A256-33589A76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68F3-B9B1-42A4-A46D-B8A594AD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8C979-BB59-4E3E-9FF9-F0CCD255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E081-7AB4-45DC-A5EE-78AFDB3D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A1F1-6026-4D02-AF32-0FAD59E9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DD9D-E42E-4FAB-B2AC-690E1C1F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E659-A7CA-47DE-8784-620D384A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941-0E93-4E70-A162-A8BCAD26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3AE7-74E9-47D0-9C23-51990D2B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5C9D-485B-4B02-8666-F137AA92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237C-AD46-48A0-9F0C-4B0013D7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3EC7-4189-4081-9FD4-0B09CC8A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DC02-890C-4B8F-862E-3014581E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1015-3A64-4ACF-857B-A20968D5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92AD-EEDC-41E1-AF2B-80E4ACE4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254C-6FF9-4826-B7CD-E4F9B7AA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607ED-177D-43E0-9D6B-087E8D7E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F4EAB-52A8-4E09-B1F0-CE2825EE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043-BAB5-4E10-B164-2A4BEBF3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17DF-4CF5-48C0-8EB0-6A897057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ACAC3-3FC0-437F-8D71-B84816CB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1076-6B46-4F76-8F4A-7BACA477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0A673-BF45-44EF-B793-ED560C32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3DBB4-B155-474D-A078-6A292ADC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9C154-6CE3-4E2E-813A-AE86DE84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6026-4D3C-426D-A469-5C02DA8E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67D3-DE18-4D5D-B87D-CA512AA0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14199-458C-49E6-AF47-9E25F31C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56C4E-4C67-4763-AD1E-EEA0D44D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6CB-EC2F-4A28-9162-E0B7EDEB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52B8C-6FFB-4798-8A76-22E5B949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051D3-2B8C-46CF-9336-BFE02A86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8236A-C374-4011-9AF7-8FFC7A41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DBEC6-A7B1-4FDD-BFA2-02E83D87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9796F-6DCF-45B5-9151-D6C7CBC7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C2D53-F3B6-4715-8192-5EAFCFAD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C572C-B669-463F-9ECE-552EEFCF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D41C4-43F4-4A66-A561-96984A79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6D933-4CD6-43C7-9DA6-ECCCA9E2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0FFB2-612A-497C-9DDC-F407B989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A54-7F15-4D59-997F-D1F749C7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EDB4E-E491-4A04-966E-7225BE0A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5F59F-494F-4847-9052-0DB9FA8C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8218-44FB-40E5-BE27-33BDC2F4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C2D9B-FE2D-4F04-A4E7-2F80EF6F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3BB2E-E8BC-499E-ABD5-5E314612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A63A4-2EA7-4A29-B1C1-99A3A11B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218F8-1DA1-4226-9143-7DC488D6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F0B94-14E4-4A07-8E1C-C19776C8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14F88-7F56-4EB0-B77E-1080EC53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D74BD-A212-4EA8-AA45-56AD7BBA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ABE-E725-4F36-818F-4AD291CD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997B6-26D6-46FA-9240-B5E52AAB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DC1F5-C8FD-4C5C-BD30-677B0B25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D0E8D-3BA7-4448-AAA8-F959FC5E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6D2A8-3FF7-4AD2-ABAE-7330F3B4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FADB2-E299-4319-80CD-CA7101D1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D997D-DBA0-4D99-B9BF-35DDAB9D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509F3-A003-48A7-BE01-FB07C4BA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E0606-F27B-435E-9C73-A7058260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FBDE-601F-4CDA-A847-11FCEDA7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EF552-0F59-4F29-B706-D8788027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92A-241E-40C2-8C48-9586BEF6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D141D-109B-4EF4-B4F6-1E2AA7B9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9A8D2-F69C-4F63-82F0-7681593D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21BEB-34A3-4201-A038-F1A9246A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C739E-F16B-4F24-8ACA-2C02B221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2B32-0D21-467B-AD6B-3E3078E0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645-18A9-4906-99DE-6E36D7CA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93822-B081-4307-87B5-7A922E53EC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9E060-8461-4892-A36B-EFE384E42B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1906A-5CF8-4252-AF61-0B991ABC07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2A299-F2A8-4914-AA11-4330048FF3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3DD4E-D700-4E6B-A4A9-70DDA4F75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2AA93-4E99-486B-9F86-C6254BCDA3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34A59-30A4-43EF-88FC-944A55AD63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610400" y="863640"/>
            <a:ext cx="46584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Mardi 19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01800" y="25369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42120" y="2962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Image 2" descr=""/>
          <p:cNvPicPr/>
          <p:nvPr/>
        </p:nvPicPr>
        <p:blipFill>
          <a:blip r:embed="rId1"/>
          <a:stretch/>
        </p:blipFill>
        <p:spPr>
          <a:xfrm>
            <a:off x="1854360" y="1436760"/>
            <a:ext cx="7835760" cy="3714840"/>
          </a:xfrm>
          <a:prstGeom prst="rect">
            <a:avLst/>
          </a:prstGeom>
          <a:ln w="0">
            <a:noFill/>
          </a:ln>
        </p:spPr>
      </p:pic>
      <p:sp>
        <p:nvSpPr>
          <p:cNvPr id="320" name="ZoneTexte 3"/>
          <p:cNvSpPr/>
          <p:nvPr/>
        </p:nvSpPr>
        <p:spPr>
          <a:xfrm>
            <a:off x="367560" y="515160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entury Gothic"/>
              </a:rPr>
              <a:t>A.  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ZoneTexte 5"/>
          <p:cNvSpPr/>
          <p:nvPr/>
        </p:nvSpPr>
        <p:spPr>
          <a:xfrm>
            <a:off x="2862000" y="515160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entury Gothic"/>
              </a:rPr>
              <a:t>B.   1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ZoneTexte 6"/>
          <p:cNvSpPr/>
          <p:nvPr/>
        </p:nvSpPr>
        <p:spPr>
          <a:xfrm>
            <a:off x="5659560" y="5151600"/>
            <a:ext cx="162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entury Gothic"/>
              </a:rPr>
              <a:t>C.   2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ZoneTexte 7"/>
          <p:cNvSpPr/>
          <p:nvPr/>
        </p:nvSpPr>
        <p:spPr>
          <a:xfrm>
            <a:off x="8263080" y="5151600"/>
            <a:ext cx="19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entury Gothic"/>
              </a:rPr>
              <a:t>D.   10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Image 3" descr=""/>
          <p:cNvPicPr/>
          <p:nvPr/>
        </p:nvPicPr>
        <p:blipFill>
          <a:blip r:embed="rId1"/>
          <a:stretch/>
        </p:blipFill>
        <p:spPr>
          <a:xfrm>
            <a:off x="1751040" y="4073400"/>
            <a:ext cx="8534520" cy="2362320"/>
          </a:xfrm>
          <a:prstGeom prst="rect">
            <a:avLst/>
          </a:prstGeom>
          <a:ln w="0">
            <a:noFill/>
          </a:ln>
        </p:spPr>
      </p:pic>
      <p:pic>
        <p:nvPicPr>
          <p:cNvPr id="326" name="Image 4" descr=""/>
          <p:cNvPicPr/>
          <p:nvPr/>
        </p:nvPicPr>
        <p:blipFill>
          <a:blip r:embed="rId2"/>
          <a:stretch/>
        </p:blipFill>
        <p:spPr>
          <a:xfrm>
            <a:off x="166680" y="1436760"/>
            <a:ext cx="1116324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57240" y="1436760"/>
            <a:ext cx="120888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19160" y="1436760"/>
            <a:ext cx="12006000" cy="39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8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38200" cy="41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Image 2" descr=""/>
          <p:cNvPicPr/>
          <p:nvPr/>
        </p:nvPicPr>
        <p:blipFill>
          <a:blip r:embed="rId1"/>
          <a:stretch/>
        </p:blipFill>
        <p:spPr>
          <a:xfrm>
            <a:off x="14400" y="1436760"/>
            <a:ext cx="1219968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09440" y="1436760"/>
            <a:ext cx="10704600" cy="53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832120" y="1436760"/>
            <a:ext cx="505476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82440" y="1900080"/>
            <a:ext cx="11998440" cy="39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09-18T18:18:42Z</dcterms:modified>
  <cp:revision>28</cp:revision>
  <dc:subject/>
  <dc:title>Questions FLASH</dc:title>
</cp:coreProperties>
</file>