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FA0-8379-4570-BFF6-0DD43FD5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582-EEB2-415F-BF76-D33EBEC3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385-A093-4C95-B27B-414FEDF0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2B1-1222-4B6F-BEEF-4C1A132D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07AB-24D1-4811-AB2A-12D36AC8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9476-46F9-42DB-A996-20B64123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7F26-D026-4F83-8AB7-F67E6256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3690-3246-4D32-8BF7-E8CDE32B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23DD-8D58-45F8-B23F-7E10A448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1C70-009F-4394-BCC2-2C98676A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C2AD-9639-43F1-BD97-1F5B4707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D01-F3EA-4C02-8830-9BC5FFBE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1EDE-2839-4F9C-8B44-4B28CE0F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5567-2C5A-4E98-B2E7-ABE214C9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03CA-8601-4700-A39C-CD8EABEA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4F3D-648B-4832-9435-DB742C11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59C6-C017-423D-9883-CEF72595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4FFF-6F17-4DF4-B7CE-D0D554C5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50F91-295B-4B35-A693-4B7A5A8F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505D0-15B1-440F-A709-E0290087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30E4-4A28-4D38-ADCB-3A1F7BEB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DF57E-6E04-49F1-8DBC-A1ACC5C8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C8A-B2DF-4BBE-8C00-F7F57C8D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75A4-A949-4593-9B63-7A4A024D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6D70-EE61-404C-87BB-4886F6A9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33A8-2F58-4C57-99B5-B61788D0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EA5E4-9848-408E-B214-511883F2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7D6DE-3948-474B-B397-EBEC3BB2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B2F62-0CC3-4016-A791-ED8210F5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00345-F026-4BFF-B939-46B7B204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BD939-D5E1-470F-A1B7-885F0461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41335-D5B2-40CD-8EA3-EE08E83B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50762-EF4A-41B4-9629-AB1373C3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705-AF93-499C-8670-68157679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2808F-DB58-4C04-AC96-61702F85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BE605-1785-4C93-B52F-76E7AFC0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3D87D-F4CC-4741-B76A-7DDFC2B3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F8580-A06C-4CF8-92D9-BB2536F8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BA27C-BCB9-42D7-889A-433C0FAF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716DF-2D71-49D0-AB22-E1189819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0A2C7-073B-4BEB-A439-BF41F0E6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80A23-E6D1-4F00-98F6-925BF0A1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72564-A6CB-4C91-88B6-3EAB6F95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30D5D-FBBE-47D2-A60B-4070E5D5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045-4A78-418B-96E5-D4B40E04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D97C4-0DF2-4916-B0C3-D0921ED6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7F57E-094B-4CB1-BEFD-72C1FDF4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BEC4F-4514-47C2-B1B9-66611606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C4435-C90F-42A7-B8A2-F2CF4AC1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C72AD-E0BC-4EB8-9E30-41AE0756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C92F9-2A00-4820-BABB-6B2DC32C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9B1B7-51F4-463E-B644-949F2009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33A3E-5C8C-4F10-8DDD-C91A303F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4CCA7-315D-4667-8266-0827A7CF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DAA52-86A0-4EE4-8CBD-E0B2A4E3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74C-98A5-4BE5-B18D-AAF3A7B4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AA630-3251-4A23-A993-B850ED21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5F886-D40E-4E62-8A4D-FC80BFB1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7EE6B-A87F-4573-A69F-60175D3C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9BA50-8D69-442A-A48E-30E272B9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A66F9-D952-4662-85EF-929A7776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376EC-261C-4CA7-92DC-735B3754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A8A1F-576A-422B-9EB4-FA5217CA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15A24-1E9A-48DC-9B5D-06FFA304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83C48-6762-439B-8521-11007EAF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D80A6-562B-4CF8-926C-F4C2819D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7CC-26FD-4AFD-B33A-D9AB3810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5D9F3-921A-4083-B032-3648CB92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BFE13-ED78-4638-BBF1-FF77FAB1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ACD01-743E-4FB1-9B37-F17B3B6A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9C720-B562-4B67-ADB6-3CDD1BB3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22DA5-A953-488A-89DF-D80B0762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A1611-B6FC-44D7-B269-67F7AF2D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D1D81-B8DC-450B-B4B5-AFA4812D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ECD91-24CE-4724-B5BE-747E7E6E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8CEB1-94E8-4419-B213-90C0CD14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724DF-27AC-46F3-B127-8E00DF27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2ED-5424-4E6C-BC37-A10153EB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CEB05-B6A9-481F-B2BD-42FFF950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096D6-42BC-4A94-B826-044FB920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68995-1287-4721-97DF-04A942C3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66542-BE41-4D82-90C2-99ECB4CC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DD495-B7F7-4B86-8CDF-1AA45C1D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9BF-45D0-4315-80B9-451D1119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9524D-9FB8-49DF-85D0-56052B9322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ADFC1-A6DC-4922-9776-B37F257EFB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ED734-20F8-4DE6-BA7F-80B9C51030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8E926-19B1-43C6-8CB1-27C11C164E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DAA48-B6C7-4377-9256-72B7E90AC3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5B393-1105-4BFB-8B76-FD636B5D38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3F7C5-8C70-4ABA-BEB8-3BDD666244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entury Gothic"/>
              </a:rPr>
              <a:t>QUESTIONS FLASH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Géométrie mentale , calcul mental, et algorithmi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ZoneTexte 2"/>
          <p:cNvSpPr/>
          <p:nvPr/>
        </p:nvSpPr>
        <p:spPr>
          <a:xfrm>
            <a:off x="7610400" y="863640"/>
            <a:ext cx="46584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Mardi 26 Septembre 20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ZoneTexte 3"/>
          <p:cNvSpPr/>
          <p:nvPr/>
        </p:nvSpPr>
        <p:spPr>
          <a:xfrm>
            <a:off x="9942120" y="2536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DAK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ZoneTexte 5"/>
          <p:cNvSpPr/>
          <p:nvPr/>
        </p:nvSpPr>
        <p:spPr>
          <a:xfrm>
            <a:off x="9901800" y="2962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PRETOR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9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Image 3" descr=""/>
          <p:cNvPicPr/>
          <p:nvPr/>
        </p:nvPicPr>
        <p:blipFill>
          <a:blip r:embed="rId1"/>
          <a:stretch/>
        </p:blipFill>
        <p:spPr>
          <a:xfrm>
            <a:off x="0" y="2374920"/>
            <a:ext cx="12185640" cy="14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Image 2" descr=""/>
          <p:cNvPicPr/>
          <p:nvPr/>
        </p:nvPicPr>
        <p:blipFill>
          <a:blip r:embed="rId1"/>
          <a:stretch/>
        </p:blipFill>
        <p:spPr>
          <a:xfrm>
            <a:off x="0" y="1954080"/>
            <a:ext cx="12179160" cy="22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FIN DU FLASH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941400" y="511200"/>
            <a:ext cx="595296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Image 2" descr=""/>
          <p:cNvPicPr/>
          <p:nvPr/>
        </p:nvPicPr>
        <p:blipFill>
          <a:blip r:embed="rId1"/>
          <a:stretch/>
        </p:blipFill>
        <p:spPr>
          <a:xfrm>
            <a:off x="0" y="1859040"/>
            <a:ext cx="1217628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2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Image 3" descr=""/>
          <p:cNvPicPr/>
          <p:nvPr/>
        </p:nvPicPr>
        <p:blipFill>
          <a:blip r:embed="rId1"/>
          <a:stretch/>
        </p:blipFill>
        <p:spPr>
          <a:xfrm>
            <a:off x="0" y="2050920"/>
            <a:ext cx="12071520" cy="16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Image 3" descr=""/>
          <p:cNvPicPr/>
          <p:nvPr/>
        </p:nvPicPr>
        <p:blipFill>
          <a:blip r:embed="rId1"/>
          <a:stretch/>
        </p:blipFill>
        <p:spPr>
          <a:xfrm>
            <a:off x="0" y="2506680"/>
            <a:ext cx="1220328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Image 3" descr=""/>
          <p:cNvPicPr/>
          <p:nvPr/>
        </p:nvPicPr>
        <p:blipFill>
          <a:blip r:embed="rId1"/>
          <a:stretch/>
        </p:blipFill>
        <p:spPr>
          <a:xfrm>
            <a:off x="4680" y="2781360"/>
            <a:ext cx="12187440" cy="16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Image 3" descr=""/>
          <p:cNvPicPr/>
          <p:nvPr/>
        </p:nvPicPr>
        <p:blipFill>
          <a:blip r:embed="rId1"/>
          <a:stretch/>
        </p:blipFill>
        <p:spPr>
          <a:xfrm>
            <a:off x="0" y="2735280"/>
            <a:ext cx="1216512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Image 3" descr=""/>
          <p:cNvPicPr/>
          <p:nvPr/>
        </p:nvPicPr>
        <p:blipFill>
          <a:blip r:embed="rId1"/>
          <a:stretch/>
        </p:blipFill>
        <p:spPr>
          <a:xfrm>
            <a:off x="0" y="2382840"/>
            <a:ext cx="122191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7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Image 3" descr=""/>
          <p:cNvPicPr/>
          <p:nvPr/>
        </p:nvPicPr>
        <p:blipFill>
          <a:blip r:embed="rId1"/>
          <a:stretch/>
        </p:blipFill>
        <p:spPr>
          <a:xfrm>
            <a:off x="0" y="2573280"/>
            <a:ext cx="1225224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8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Image 3" descr=""/>
          <p:cNvPicPr/>
          <p:nvPr/>
        </p:nvPicPr>
        <p:blipFill>
          <a:blip r:embed="rId1"/>
          <a:stretch/>
        </p:blipFill>
        <p:spPr>
          <a:xfrm>
            <a:off x="0" y="2305080"/>
            <a:ext cx="12249000" cy="141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23:07:47Z</dcterms:created>
  <dc:creator>françois FATOUX</dc:creator>
  <dc:description/>
  <dc:language>en-US</dc:language>
  <cp:lastModifiedBy>françois FATOUX</cp:lastModifiedBy>
  <dcterms:modified xsi:type="dcterms:W3CDTF">2017-10-01T17:42:57Z</dcterms:modified>
  <cp:revision>62</cp:revision>
  <dc:subject/>
  <dc:title>Questions FLASH</dc:title>
</cp:coreProperties>
</file>