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762-CFB3-47DE-B2EA-332A9905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E72-68FE-47D2-B08D-B92AB3CB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40D-0177-4069-BC83-A6361B3C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9BB-1A9B-4B24-A08B-A2F9A386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6C63-5754-4A57-A69D-2779CED3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CF17-7D7D-4E67-B949-E3A3A1BB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FF09-25A0-4F34-860A-BF4DB7FF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BA54-3DE8-4901-8A51-D3D4A1F2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BD96-2D10-4BE2-8F6B-AE25343A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634F-D3AE-43CC-AD86-2016644B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A92F-68B5-4DFC-B301-49BE1E8F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501-FE56-4C2A-9325-10489513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CB3E-F48A-4B9D-9180-D90596C9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ACE0-40D1-4609-B70F-7916E3E2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5798-1FE0-454C-990B-4E5C87E3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CF4A-EA35-4789-8546-991522FA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AFC2-811A-4E12-94C8-F282F257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FC30-7590-4EFD-B41B-A69BF9A4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9D85-D2D2-4CD5-A416-BC7442DA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CB648-8B93-4202-8BBC-E9F930F4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5FA3E-0018-4985-A130-C6FF111F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F465-F140-42C5-A30C-56E14FBF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631-E6FA-4FF1-AA3D-63C19D7D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55CF-BE1D-4590-8DB4-413FB20A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314A-6604-44D9-BDEC-2050242E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7AF3-AA2B-4435-ABA6-F70039E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F1994-29FC-4E5A-ABF4-5A797019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E5159-D8E0-4353-8D09-EDDFFB42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C19B-6C09-4629-A608-89BDCB2E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4C14-F717-4CDE-A044-6066884A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B3B2A-6E41-46D4-A26E-4DA1CA1D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6147-81D0-4DF9-AC4D-68988500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ADFB9-FC8B-4670-8F0C-A0E0D49D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BAB-BD5D-4734-A96D-AA5C31C2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21A56-D2F5-46BC-8F31-1B2EC1BE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02A97-BBD6-48DC-A582-E005F7A7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7DCB-B935-4D59-9408-DE334C43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E0A2B-038C-4C28-A9FF-99833FDB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78169-9CD2-4C63-A7DF-6FFD7CEE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A4E3E-0F26-4431-A91E-6886C1C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5866B-1AB3-460A-8E9C-7CEB6D80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CE971-D218-44C6-A4A6-864EC290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9CB4-F8F2-4F0E-B2AF-DD3D3FAA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DDF7-40EC-4DF1-9C1D-208103DC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A9A-CB9F-4557-9588-1425322F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79724-4A15-4FAA-B5B6-D41AE637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682BF-EC89-4A8D-86FF-E32DD4AD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D38A1-F19E-4B35-B0E5-EF1EE306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F9084-F607-41CA-AA54-7F08914B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D164A-44D2-4F04-9ABC-F815E0A1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B69C-E111-4DD1-AD54-3788D0EA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D3773-8A8B-4221-BBAF-F0331B15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A71BE-C4C1-450D-8385-9A079B2A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2B882-69D7-492B-9EB0-63FE0150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FE3D-4187-4F78-A3EC-C4A78ABD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1F2-05D4-4735-9A87-520D9001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E1873-464D-41DC-A474-0CCB59AB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C751D-3510-4661-9F78-13D6F863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7AD05-0500-4666-B2B4-8220D387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6222D-74C5-4FAF-99E2-CEB4229C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4FC2E-8D80-42E8-84DC-B29AAF2F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F781B-BB1F-4A10-855B-166D7C20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32285-4C29-4601-8994-B50CB0DE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D0F35-D66D-4A8C-8F20-9EC9FDD2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C9B6F-0150-4CB9-8EB6-5698AA27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D680B-9F99-4DB7-A30A-D10392DC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44B-6AC4-43ED-985C-E1BC13D1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962B2-230C-4321-9E9C-14CB9755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EE803-6758-42C8-B07A-7EA5A63D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0085F-5197-4F73-A508-5CD748EA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9D467-3E85-4A3B-9834-DC89EF20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78968-1418-4716-A886-5F8B3FF2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32E48-79D9-437E-B5E0-5E927CF1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76637-E354-49A5-90C7-1D5F774C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F5E3C-C98D-4E07-ABD1-CCACA27E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F3BBE-1D1A-4A49-AB0B-59D00197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A84B9-51AE-42E5-BBED-9D258095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086-39E8-4CB0-B3BB-4BDD0254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4E69-71DD-4AAF-B32E-F3A1F12D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39227-FA5F-4208-BBBF-3858C5A8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02CA1-E1A4-4A32-B5F5-02AA6264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3B235-839B-4CF1-871D-3DF33A37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5247F-F270-4FD5-9076-84B3721B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7E9-2EA9-42B9-A41C-4DC589C0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8E900-979F-4318-98AB-FAD69AD2D8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D620E-D23A-4FFB-A76E-D119F793B3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2198A-91B6-4E15-8140-D15A2F006A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A9A45-8EC8-4F72-A84E-7CAF7B30F2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3374F-C117-499A-A294-83E7366287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EAC34-13CA-46E8-A007-07314F2A75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56107-5A7F-4332-A617-C2EF069B7F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entury Gothic"/>
              </a:rPr>
              <a:t>QUESTIONS FLASH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Géométrie mentale , calcul mental, et algorithmi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ZoneTexte 2"/>
          <p:cNvSpPr/>
          <p:nvPr/>
        </p:nvSpPr>
        <p:spPr>
          <a:xfrm>
            <a:off x="7610400" y="863640"/>
            <a:ext cx="46584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askerville Old Face"/>
              </a:rPr>
              <a:t>Mardi 19 Septembre 20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ZoneTexte 3"/>
          <p:cNvSpPr/>
          <p:nvPr/>
        </p:nvSpPr>
        <p:spPr>
          <a:xfrm>
            <a:off x="9901800" y="25369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PRETOR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ZoneTexte 5"/>
          <p:cNvSpPr/>
          <p:nvPr/>
        </p:nvSpPr>
        <p:spPr>
          <a:xfrm>
            <a:off x="9942120" y="2962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entury Gothic"/>
              </a:rPr>
              <a:t>5eme DAK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9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Image 2" descr=""/>
          <p:cNvPicPr/>
          <p:nvPr/>
        </p:nvPicPr>
        <p:blipFill>
          <a:blip r:embed="rId1"/>
          <a:stretch/>
        </p:blipFill>
        <p:spPr>
          <a:xfrm>
            <a:off x="1854360" y="1436760"/>
            <a:ext cx="7835760" cy="3714840"/>
          </a:xfrm>
          <a:prstGeom prst="rect">
            <a:avLst/>
          </a:prstGeom>
          <a:ln w="0">
            <a:noFill/>
          </a:ln>
        </p:spPr>
      </p:pic>
      <p:sp>
        <p:nvSpPr>
          <p:cNvPr id="320" name="ZoneTexte 3"/>
          <p:cNvSpPr/>
          <p:nvPr/>
        </p:nvSpPr>
        <p:spPr>
          <a:xfrm>
            <a:off x="367560" y="515160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entury Gothic"/>
              </a:rPr>
              <a:t>A.  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ZoneTexte 5"/>
          <p:cNvSpPr/>
          <p:nvPr/>
        </p:nvSpPr>
        <p:spPr>
          <a:xfrm>
            <a:off x="2862000" y="515160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entury Gothic"/>
              </a:rPr>
              <a:t>B.   1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ZoneTexte 6"/>
          <p:cNvSpPr/>
          <p:nvPr/>
        </p:nvSpPr>
        <p:spPr>
          <a:xfrm>
            <a:off x="5659560" y="5151600"/>
            <a:ext cx="162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entury Gothic"/>
              </a:rPr>
              <a:t>C.   2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ZoneTexte 7"/>
          <p:cNvSpPr/>
          <p:nvPr/>
        </p:nvSpPr>
        <p:spPr>
          <a:xfrm>
            <a:off x="8263080" y="5151600"/>
            <a:ext cx="19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entury Gothic"/>
              </a:rPr>
              <a:t>D.   10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0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Image 3" descr=""/>
          <p:cNvPicPr/>
          <p:nvPr/>
        </p:nvPicPr>
        <p:blipFill>
          <a:blip r:embed="rId1"/>
          <a:stretch/>
        </p:blipFill>
        <p:spPr>
          <a:xfrm>
            <a:off x="1751040" y="4073400"/>
            <a:ext cx="8534520" cy="2362320"/>
          </a:xfrm>
          <a:prstGeom prst="rect">
            <a:avLst/>
          </a:prstGeom>
          <a:ln w="0">
            <a:noFill/>
          </a:ln>
        </p:spPr>
      </p:pic>
      <p:pic>
        <p:nvPicPr>
          <p:cNvPr id="326" name="Image 4" descr=""/>
          <p:cNvPicPr/>
          <p:nvPr/>
        </p:nvPicPr>
        <p:blipFill>
          <a:blip r:embed="rId2"/>
          <a:stretch/>
        </p:blipFill>
        <p:spPr>
          <a:xfrm>
            <a:off x="166680" y="1436760"/>
            <a:ext cx="1116324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FIN DU FLASH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941400" y="511200"/>
            <a:ext cx="59529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57240" y="1436760"/>
            <a:ext cx="120888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2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19160" y="1436760"/>
            <a:ext cx="12006000" cy="39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18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Image 2" descr=""/>
          <p:cNvPicPr/>
          <p:nvPr/>
        </p:nvPicPr>
        <p:blipFill>
          <a:blip r:embed="rId1"/>
          <a:stretch/>
        </p:blipFill>
        <p:spPr>
          <a:xfrm>
            <a:off x="0" y="1436760"/>
            <a:ext cx="12238200" cy="41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Image 2" descr=""/>
          <p:cNvPicPr/>
          <p:nvPr/>
        </p:nvPicPr>
        <p:blipFill>
          <a:blip r:embed="rId1"/>
          <a:stretch/>
        </p:blipFill>
        <p:spPr>
          <a:xfrm>
            <a:off x="14400" y="1436760"/>
            <a:ext cx="1219968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09440" y="1436760"/>
            <a:ext cx="10704600" cy="53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7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832120" y="1436760"/>
            <a:ext cx="505476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80920" y="14292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entury Gothic"/>
              </a:rPr>
              <a:t>QUESTION 8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82440" y="1900080"/>
            <a:ext cx="11998440" cy="39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23:07:47Z</dcterms:created>
  <dc:creator>françois FATOUX</dc:creator>
  <dc:description/>
  <dc:language>en-US</dc:language>
  <cp:lastModifiedBy>françois FATOUX</cp:lastModifiedBy>
  <dcterms:modified xsi:type="dcterms:W3CDTF">2017-09-23T16:12:12Z</dcterms:modified>
  <cp:revision>28</cp:revision>
  <dc:subject/>
  <dc:title>Questions FLASH</dc:title>
</cp:coreProperties>
</file>