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FA2-D12F-400F-8D36-E80E3E56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201-7956-4C4E-9A3B-A2A06343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FBA-9D1B-4BA4-AB45-113AF30F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E83-1FC3-4785-A89D-E3A0855A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5940-9CB9-4F35-8168-1E40BA78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D66E-22E7-4A9E-B56A-C4E7EFC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F975-2BC3-4134-933E-3FFB7F57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2AA-783A-41E0-9ED1-6B6F345C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14B9-93A6-4BE8-B380-7797036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A2E-E02E-4901-A9B9-ECEBA8DA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AFAF-262A-4590-8336-8E064A5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09A-7638-4217-BF14-7AD375F4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98E6-6FAE-4CC2-8081-45FFEE6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B416-F997-4CC6-9719-B4A03E0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5BA1-2DD3-447A-A5E0-6B70E276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EC3-E8D0-4A08-AC36-052E9482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86F-722A-4D01-99C4-80BDD3FA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593E-EA15-4660-B973-9E0FE715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269C-C68F-4D55-9C2B-CE46417D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8D5D-7D6B-4FA8-B936-ED0A88E8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F46B-66A9-43A8-B129-A3CBADC1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A0B1-26B4-4B66-BBFB-E7A4761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040-BC85-4140-81B9-BA6D93BF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5FAA-03AB-4F70-AF8E-D243A0FD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5305-721C-4F3E-934F-3DD5F3C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3F85-2FAA-4579-91E2-8C159B0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55E3-9D14-4769-B3DB-4D1850C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AF86-B437-491A-8086-E89AD8D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429F-E823-4000-B363-C21804CC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E4E4-CF21-4A5E-AAE3-EBB9DB3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8140-0A45-4CE9-AC80-76E12BEB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CEF6-8C75-4827-B445-53C2A11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DB6A-C965-4ECD-BC59-F1FFEFC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39C-F40E-42F5-88C1-087A2A5C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DDDE-BA50-4A73-A967-CF14750A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3F32-E8C9-499E-9C53-33D670EC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9C51-6631-48CC-8EA9-61CEE9B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5DAC-2004-4902-BEC6-6010436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38CCE-3997-49D9-97F2-3F4CAF7A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5082-D6C6-4E12-96D8-C3E4DFC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D4F6-A55E-4C22-8DE3-BBF2ED9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9FF40-76B4-47B4-8628-BA642F1B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489C-20BF-407F-822D-43BE32DA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B8421-05F6-440C-9ABD-B38E7342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89A-80B9-4A98-B4B2-0777CE03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EDFA-6878-4893-B0D8-8D12BB09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D519-2E4D-4EFD-BD27-F2C105C8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110B-06C0-4952-969F-B314CD90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C5D9-D162-4775-A0AE-59AAE52F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0EA8-E678-452F-9812-1AB1FC4B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FA5B-AC87-4530-8943-3A01E7A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7841-9356-4DB6-8FF5-8670A9B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9564-3CFC-4819-929C-5D271E7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90D8-8B8C-4D67-B769-DE398F3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35024-2C95-4680-8804-9760143E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8F3-B2BB-451F-AFD6-318E353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BC9C-FADB-499B-8032-A42346BC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67E3-68F1-4946-86E8-B4965FF4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02E8-CE5C-48A4-A589-A4623CC4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E50D-5364-4C2F-8AB1-B5629BC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91E1D-7980-434B-A399-B495063C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020C6-759D-4D58-830B-1A4F838F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6F70-285C-4DEE-A73F-F91A6226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05EE-85C3-4813-B7A2-2A44B9D7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E04D-4596-42F1-934E-B80977DF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3BE1-A02F-409F-B837-808D63E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824-8F0E-47E5-A994-A07B9BC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0052-593E-4F03-8B8F-FB4E9D5E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3521-CC9C-4F4A-9B0D-2B56F1D2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014E-90D9-4F03-9026-CF1B8448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33253-8B7C-46A2-9174-9A9D97C5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2D11D-EBD9-4674-BFF9-7D23C3CE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5EEE-11F7-4671-8CDE-1A1D9F6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A017D-C2CA-40FD-9042-E58A5D3C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DEDD-D6AA-4970-AFB6-03294F86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0D91-85FB-40EC-871D-55D8941A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56CBF-0E6E-4D60-A35C-1783484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D36-3466-45C0-B9EF-D601E1B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645C-82A5-4131-9A85-64DF600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BD0E8-F0C6-4D32-A917-1A46D9E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4D0E-33E1-4B5E-A234-4B90C6E4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0AAB-F8C1-4A55-A43D-7212DCF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D721-7E5E-45DF-B198-A6638678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DD4-20CC-47DC-AB43-874EDB3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D5462-BF0D-4AD8-B530-57AC6BA5E5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E5F6E-1197-4564-9805-18AB2896C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94E64-EDE8-4BA7-B89E-748A299092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91987-F541-40D9-B59E-D06BCB7147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1FAE7-EFD3-4789-8C08-5E8EC79A56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4FA5F-AC2E-4D3D-8CB5-B4B65B5D00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4D3F3-D18D-4B0F-B153-4FA35108E0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06440" y="863640"/>
            <a:ext cx="45072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Jeudi 28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Image 2" descr=""/>
          <p:cNvPicPr/>
          <p:nvPr/>
        </p:nvPicPr>
        <p:blipFill>
          <a:blip r:embed="rId1"/>
          <a:stretch/>
        </p:blipFill>
        <p:spPr>
          <a:xfrm>
            <a:off x="0" y="2224080"/>
            <a:ext cx="1217772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Image 2" descr=""/>
          <p:cNvPicPr/>
          <p:nvPr/>
        </p:nvPicPr>
        <p:blipFill>
          <a:blip r:embed="rId1"/>
          <a:stretch/>
        </p:blipFill>
        <p:spPr>
          <a:xfrm>
            <a:off x="0" y="2224080"/>
            <a:ext cx="12163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Image 2" descr=""/>
          <p:cNvPicPr/>
          <p:nvPr/>
        </p:nvPicPr>
        <p:blipFill>
          <a:blip r:embed="rId1"/>
          <a:stretch/>
        </p:blipFill>
        <p:spPr>
          <a:xfrm>
            <a:off x="0" y="2217600"/>
            <a:ext cx="12173040" cy="17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ZoneTexte 2"/>
          <p:cNvSpPr/>
          <p:nvPr/>
        </p:nvSpPr>
        <p:spPr>
          <a:xfrm>
            <a:off x="7610400" y="863640"/>
            <a:ext cx="4658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ardi 26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Image 2" descr=""/>
          <p:cNvPicPr/>
          <p:nvPr/>
        </p:nvPicPr>
        <p:blipFill>
          <a:blip r:embed="rId1"/>
          <a:stretch/>
        </p:blipFill>
        <p:spPr>
          <a:xfrm>
            <a:off x="0" y="2924280"/>
            <a:ext cx="12204720" cy="15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Image 2" descr=""/>
          <p:cNvPicPr/>
          <p:nvPr/>
        </p:nvPicPr>
        <p:blipFill>
          <a:blip r:embed="rId1"/>
          <a:stretch/>
        </p:blipFill>
        <p:spPr>
          <a:xfrm>
            <a:off x="0" y="2498760"/>
            <a:ext cx="12160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Image 2" descr=""/>
          <p:cNvPicPr/>
          <p:nvPr/>
        </p:nvPicPr>
        <p:blipFill>
          <a:blip r:embed="rId1"/>
          <a:stretch/>
        </p:blipFill>
        <p:spPr>
          <a:xfrm>
            <a:off x="0" y="2414520"/>
            <a:ext cx="1222200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Image 2" descr=""/>
          <p:cNvPicPr/>
          <p:nvPr/>
        </p:nvPicPr>
        <p:blipFill>
          <a:blip r:embed="rId1"/>
          <a:stretch/>
        </p:blipFill>
        <p:spPr>
          <a:xfrm>
            <a:off x="0" y="2268360"/>
            <a:ext cx="12190320" cy="16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Image 2" descr=""/>
          <p:cNvPicPr/>
          <p:nvPr/>
        </p:nvPicPr>
        <p:blipFill>
          <a:blip r:embed="rId1"/>
          <a:stretch/>
        </p:blipFill>
        <p:spPr>
          <a:xfrm>
            <a:off x="0" y="2333520"/>
            <a:ext cx="12157200" cy="14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Image 2" descr=""/>
          <p:cNvPicPr/>
          <p:nvPr/>
        </p:nvPicPr>
        <p:blipFill>
          <a:blip r:embed="rId1"/>
          <a:stretch/>
        </p:blipFill>
        <p:spPr>
          <a:xfrm>
            <a:off x="0" y="2171880"/>
            <a:ext cx="1221912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Image 2" descr=""/>
          <p:cNvPicPr/>
          <p:nvPr/>
        </p:nvPicPr>
        <p:blipFill>
          <a:blip r:embed="rId1"/>
          <a:stretch/>
        </p:blipFill>
        <p:spPr>
          <a:xfrm>
            <a:off x="0" y="2233440"/>
            <a:ext cx="12142800" cy="13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46:52Z</dcterms:modified>
  <cp:revision>47</cp:revision>
  <dc:subject/>
  <dc:title>Questions FLASH</dc:title>
</cp:coreProperties>
</file>