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869-8B4D-4BCD-A163-99F58DF1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9C5-8EAF-47F5-BCA1-9AB90CAE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7CD-5735-4331-BB5A-1DF65594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227-C8D4-4E01-83E1-E422BD74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ECF-5B21-4E6D-9DF5-9DCCCB01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6CD-100F-4958-9765-EB06E42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776-8598-4758-A6B8-41BD5F36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9D3-40FD-45DE-B03D-BF9B20D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150-C486-4489-8EA9-6A6F87B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4AE7-2565-4DCC-99BD-5EAD2ED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D7C-B242-4797-9C75-5517E07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2F3-2A15-4555-995E-61080BCE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984E-12B0-41AD-A1BF-1C7F564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E879-8FBB-40C5-9BBC-33014EE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0FB5-A1F8-4B37-92FD-564D36D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5C87-E7E9-46A5-96C3-4581E9BE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1FF-9569-4A30-9D60-3974CD90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1BC5-B2C7-42AC-9201-3DB56135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35AB-D30F-4476-84D2-FD3CDCCC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54BB-C707-48F8-AA10-83962A8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F3BD-F625-4052-AD0B-B7FDF454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29BC-3200-4554-82F2-407500F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D3D-5194-4B2B-942B-97B07876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45CD-0A1E-48EE-B774-365A8DC7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CD75-42B5-4B9C-B4C1-0BCE880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487C-E0DE-489C-A472-5F25F97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547E-E54B-422B-93F9-42F2F10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D72B-3CF9-4DD3-98BC-2A52117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9BD0-B158-4C22-9D51-0150BE1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5E10-93EB-4A9C-B014-6180BE89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6C60-4C4A-4910-9C1F-D6DC66DB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52E4-A2CD-4562-8F65-44079E00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F655-965D-4C55-BE3D-3978942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33C-E7B5-4C02-A2BE-B9B43F5C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8451-A2DD-46CD-89BE-0AC603A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0541-9614-45AC-8513-5B363F1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8F4B-2E96-4683-9317-5A1886CF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4854-04A6-4A66-BF6E-D0EEE0E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C2FB-40F8-43BF-99F4-C4D1C3A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F84D-A13D-4F4E-BAA9-07AEAE7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21EE-E53D-464E-9D72-9F6E9A29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7681-8B7F-46C0-BD46-18C69C61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3FE4-0881-4730-B9E1-4AC83B19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349E-48D8-499A-928E-0732E11F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B8C-195F-491B-B11D-8A149177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2D6B-03DE-4AF0-941B-41BD6DAF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A84A-F80A-40ED-97CC-544F608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7148-0A9A-4098-887E-5E6F5BBB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974B-BE0F-48B1-8483-CBC06898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2E8C-90E7-4C3C-98B3-F0290529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1C06-0A4F-42F7-9A3A-9BA4DF0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FB478-8030-4BD4-8C86-E0EE971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C2382-FA0E-411C-BF4A-45C8C42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1897-17BD-4B04-8C3B-3011B336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C70F-5E06-4704-A0B3-E91C1B63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A82-EE7D-498B-A104-505BDCC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984F-AB85-4F84-9DEF-1C038DCE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855BD-FDBB-478A-BE2D-EB2FF0D7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E3B9-59DC-4B95-8D8B-976B6AC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1D15-885E-4D45-ABC3-BEFC690F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CD61-E129-4921-9710-9D50555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F9FC-22EB-4A03-8202-F4C3FD3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6DC5-6431-4768-9E2E-7449529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2734-7C13-4A64-A436-F566AC1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AFE5-F388-4C31-BA7C-7AC5411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EB8F-8448-4157-AB72-A0808EC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7D7-0F94-4F80-9E16-F1BD0E6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91B2-96A0-4D7C-B1A1-ABA6E30F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85BE-E638-4C38-8795-82FDEA71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9F1E-4FF8-4CEC-B405-82CD661E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EBA0-3258-4C9B-A0BD-B3A6B7B8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9104-A280-4C27-842A-E609E5D0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FE94-4E50-4F52-8C21-18CF64E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F4259-B040-4EC0-A9C6-4F371CF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3E05-E2B7-47AA-B4E6-75B83D31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1D61-0973-46AA-9C3C-912C730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8A96-E11B-4743-A8E6-0F2E785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886-7D70-4488-85FD-B43809F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C66F-639F-4E12-B1C7-FBC43474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A0142-2DF0-47CC-9B56-DEA301E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5D18-478B-41E7-9A2A-0AC9DEF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B2BA-8D6C-45C2-B01C-1B510CC8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C740-C4B5-4381-8F91-73A9C07A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534-35F9-4EE4-B815-80898D0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FFC88-611F-49FF-B9F6-37D31D9F0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8604C-DB52-4B3E-88B9-98516CFFE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21BC6-45AE-42FC-94DF-48736DE56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B237C-B0E6-4D96-9B6B-73BA05993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1E018-0166-4111-86C9-46EE5F621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2BD05-C4E6-41F7-8891-EF47F4ED33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7B08A-1B11-4403-AFA0-3B764B815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702200" y="863640"/>
            <a:ext cx="41097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Lundi 02 Octo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0" y="1766880"/>
            <a:ext cx="1223640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Image 3" descr=""/>
          <p:cNvPicPr/>
          <p:nvPr/>
        </p:nvPicPr>
        <p:blipFill>
          <a:blip r:embed="rId1"/>
          <a:stretch/>
        </p:blipFill>
        <p:spPr>
          <a:xfrm>
            <a:off x="0" y="1762200"/>
            <a:ext cx="122349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6512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76280" cy="24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65120" cy="20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1657440"/>
            <a:ext cx="12192120" cy="19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0" y="1665360"/>
            <a:ext cx="12155400" cy="19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2" descr=""/>
          <p:cNvPicPr/>
          <p:nvPr/>
        </p:nvPicPr>
        <p:blipFill>
          <a:blip r:embed="rId1"/>
          <a:stretch/>
        </p:blipFill>
        <p:spPr>
          <a:xfrm>
            <a:off x="0" y="1601640"/>
            <a:ext cx="121712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Image 2" descr=""/>
          <p:cNvPicPr/>
          <p:nvPr/>
        </p:nvPicPr>
        <p:blipFill>
          <a:blip r:embed="rId1"/>
          <a:stretch/>
        </p:blipFill>
        <p:spPr>
          <a:xfrm>
            <a:off x="0" y="1849320"/>
            <a:ext cx="1218708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2" descr=""/>
          <p:cNvPicPr/>
          <p:nvPr/>
        </p:nvPicPr>
        <p:blipFill>
          <a:blip r:embed="rId1"/>
          <a:stretch/>
        </p:blipFill>
        <p:spPr>
          <a:xfrm>
            <a:off x="0" y="1951200"/>
            <a:ext cx="12168360" cy="155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3:07Z</dcterms:modified>
  <cp:revision>47</cp:revision>
  <dc:subject/>
  <dc:title>Questions FLASH</dc:title>
</cp:coreProperties>
</file>