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BA1-D4CC-4A73-A512-98F0C5D8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48F-2A7E-4DA6-A4C4-854F820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9AA-5568-4B26-A91B-A2C4CD84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430-566E-4BD5-8F62-2E060A1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DB3D-B23B-4904-AE61-897B407A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21E-95C9-4979-B600-45328B27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B04-D08A-4477-8D21-FDE91325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5FF-DEBE-475A-8F38-2667C20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A900-9F4C-4D82-8ADF-E4631F48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7927-B652-4BB2-9AAE-59A877EF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6CB9-D9C2-4932-B238-8937BC7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A15-FBD2-4BDA-B36D-2BE29B5B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F9C5-14DF-4767-BE30-5E060F3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5FB2-2630-4BD5-A5B0-3E5CB4F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28D0-050A-40CD-8274-B6B4E209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EBC-0EEB-44E8-A50C-A6465C70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0DA-0DCC-45E6-A858-C24906FE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8019-0C44-4AA5-8FDA-5777A5ED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1E3D-F234-4297-B48E-367D0A8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AB39C-598E-4E7B-B871-0A17B3D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7D50-719A-4962-9676-FE38D660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B598-2962-4288-BB9B-05D05B7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7C-AC7C-4C58-877E-DE7CD5F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0326-9167-4E20-979E-24E5049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0722-2761-41D8-A84F-40D664F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D49D-9767-4B3B-BD42-6CF1EEB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0C3A-344D-4029-A3C2-D48671D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9A24-8257-43B4-8A4C-08F9DBDD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924E-45F2-47D5-B18F-56A774DF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65FF-A2C8-4689-BD7B-AF57198A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06E8-F620-4A78-AE79-80F46A46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E5FE-0419-4F93-9798-6032FC9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9612-00FE-45DB-B871-A4E47FAF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D9A-9471-47E7-9B35-28CA9DA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F1AF-29A5-4FF3-A50E-B5A66A3C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9056-0E14-4226-A273-0FF5808E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5EC1-3D2C-49D9-9389-9D6E107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2D6A-E1FB-4EDB-A061-F0BCEE3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6811-4FD2-4572-B355-7C7EF82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A4B3-AB1D-4408-AE78-CC1C4299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275D-E706-4514-9617-75117C6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9D9C-F5E8-4928-9020-48E66C41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D374-23F2-4CD7-AEFB-53369CF6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1CB7-02B7-41DB-BE54-8A4A4735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735-0ECF-4154-9B42-5B50E7A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485E-8931-4C95-9634-368BDE6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19A6-5B43-49E5-87BC-E0126E8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CD47-50A4-402F-B073-6B11EC5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1F31-0179-46C8-83E7-70C8CB3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DB19-D305-4931-BFA3-6146B80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E559-4EC2-484B-831F-C7D9FD9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BF32-61AC-4A0D-BE95-ED88207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7D54-D1AD-4D88-B35B-CB2345D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E786-0E72-4E18-806D-C32E069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5723-022A-434B-8569-58D1D7AD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7DC-CCD4-47A5-AD84-154AAF2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9390-7126-456E-B3FA-6603513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9070-FA31-4033-B70F-D877CE0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8244-48F2-4F4C-8BDB-5451EA02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4EE1-93C8-458D-86CB-06F4450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167C-1D4F-46C0-87A8-7C3F4D69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2C9E-9940-4D96-835B-C409D02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ECA6-54A4-40C2-9A39-0D8C2CD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72C7-C002-4478-AB3B-7933C74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FAC4-53E5-41E7-9CE8-315BB91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4A15-9F14-4639-A91D-53D7258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74C-E11E-45D8-A17D-C20413B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436F-B4D7-4255-A052-92C11E1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4BD6-A72B-40BA-8732-4E22D8E8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76BD-110B-49E2-BE6A-DAF90EA6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A9EE-CD4C-4CD5-BCA0-962055C7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D386-84ED-4950-8E4A-D8187F7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A647-4DF8-4DAE-BA84-AE4CA65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FF5C-DAA8-4A21-B209-97E7670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F980-2131-4FEA-978A-C52316A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C9001-A0B3-42A2-81F0-3B6EED5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432BD-0748-41FB-9044-7A23DAD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DC2-CEF3-47C1-9D99-40EE981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305D-5CB5-4F79-9FAE-3FC048B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F2A3D-5C13-414A-AD96-FFE8A1E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8E7D-04F3-464C-9F41-3AEA329D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19A3-9A30-4705-823F-C9F8AF55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B27F-7435-4CFF-8494-0F2FF37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A15-FBE3-4446-A581-119B3F3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EF45C-FFEA-4167-9575-D3B59E08B3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EB1BB-B93F-4F2A-82D9-FA3549783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C4218-49FA-4F0C-83D8-DF082D183E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B7972-D60C-4538-BD02-189C9D18E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FEAE3-9C1B-40C2-A806-239F75BCF6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BF5DE-7AAD-47DC-A819-0492550FAF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315C0-A96B-4CA7-A47F-BE0EAD313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330320" y="912960"/>
            <a:ext cx="5208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ercredi 27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ZoneTexte 4"/>
          <p:cNvSpPr/>
          <p:nvPr/>
        </p:nvSpPr>
        <p:spPr>
          <a:xfrm>
            <a:off x="27720" y="134604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volume du grand cube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ZoneTexte 6"/>
          <p:cNvSpPr/>
          <p:nvPr/>
        </p:nvSpPr>
        <p:spPr>
          <a:xfrm>
            <a:off x="118440" y="203832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ZoneTexte 7"/>
          <p:cNvSpPr/>
          <p:nvPr/>
        </p:nvSpPr>
        <p:spPr>
          <a:xfrm>
            <a:off x="123480" y="35352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ZoneTexte 8"/>
          <p:cNvSpPr/>
          <p:nvPr/>
        </p:nvSpPr>
        <p:spPr>
          <a:xfrm>
            <a:off x="178560" y="512748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Image 12" descr=""/>
          <p:cNvPicPr/>
          <p:nvPr/>
        </p:nvPicPr>
        <p:blipFill>
          <a:blip r:embed="rId1"/>
          <a:stretch/>
        </p:blipFill>
        <p:spPr>
          <a:xfrm>
            <a:off x="3571920" y="1870200"/>
            <a:ext cx="8161200" cy="4890960"/>
          </a:xfrm>
          <a:prstGeom prst="rect">
            <a:avLst/>
          </a:prstGeom>
          <a:ln w="0">
            <a:noFill/>
          </a:ln>
        </p:spPr>
      </p:pic>
      <p:pic>
        <p:nvPicPr>
          <p:cNvPr id="336" name="Image 13" descr=""/>
          <p:cNvPicPr/>
          <p:nvPr/>
        </p:nvPicPr>
        <p:blipFill>
          <a:blip r:embed="rId2"/>
          <a:stretch/>
        </p:blipFill>
        <p:spPr>
          <a:xfrm>
            <a:off x="463680" y="4253040"/>
            <a:ext cx="1635120" cy="776160"/>
          </a:xfrm>
          <a:prstGeom prst="rect">
            <a:avLst/>
          </a:prstGeom>
          <a:ln w="0">
            <a:noFill/>
          </a:ln>
        </p:spPr>
      </p:pic>
      <p:pic>
        <p:nvPicPr>
          <p:cNvPr id="337" name="Image 14" descr=""/>
          <p:cNvPicPr/>
          <p:nvPr/>
        </p:nvPicPr>
        <p:blipFill>
          <a:blip r:embed="rId3"/>
          <a:stretch/>
        </p:blipFill>
        <p:spPr>
          <a:xfrm>
            <a:off x="439560" y="2727360"/>
            <a:ext cx="1659240" cy="623880"/>
          </a:xfrm>
          <a:prstGeom prst="rect">
            <a:avLst/>
          </a:prstGeom>
          <a:ln w="0">
            <a:noFill/>
          </a:ln>
        </p:spPr>
      </p:pic>
      <p:pic>
        <p:nvPicPr>
          <p:cNvPr id="338" name="Image 15" descr=""/>
          <p:cNvPicPr/>
          <p:nvPr/>
        </p:nvPicPr>
        <p:blipFill>
          <a:blip r:embed="rId4"/>
          <a:stretch/>
        </p:blipFill>
        <p:spPr>
          <a:xfrm>
            <a:off x="463680" y="5805360"/>
            <a:ext cx="1635120" cy="6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Image 2" descr=""/>
          <p:cNvPicPr/>
          <p:nvPr/>
        </p:nvPicPr>
        <p:blipFill>
          <a:blip r:embed="rId1"/>
          <a:stretch/>
        </p:blipFill>
        <p:spPr>
          <a:xfrm>
            <a:off x="8334360" y="1346040"/>
            <a:ext cx="3857760" cy="3248280"/>
          </a:xfrm>
          <a:prstGeom prst="rect">
            <a:avLst/>
          </a:prstGeom>
          <a:ln w="0">
            <a:noFill/>
          </a:ln>
        </p:spPr>
      </p:pic>
      <p:sp>
        <p:nvSpPr>
          <p:cNvPr id="341" name="ZoneTexte 5"/>
          <p:cNvSpPr/>
          <p:nvPr/>
        </p:nvSpPr>
        <p:spPr>
          <a:xfrm>
            <a:off x="-138960" y="1254240"/>
            <a:ext cx="84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Pour répéter l’aile où faut-il rajouter                 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Image 4" descr=""/>
          <p:cNvPicPr/>
          <p:nvPr/>
        </p:nvPicPr>
        <p:blipFill>
          <a:blip r:embed="rId2"/>
          <a:stretch/>
        </p:blipFill>
        <p:spPr>
          <a:xfrm>
            <a:off x="8169120" y="4594320"/>
            <a:ext cx="4023000" cy="1616040"/>
          </a:xfrm>
          <a:prstGeom prst="rect">
            <a:avLst/>
          </a:prstGeom>
          <a:ln w="0">
            <a:noFill/>
          </a:ln>
        </p:spPr>
      </p:pic>
      <p:sp>
        <p:nvSpPr>
          <p:cNvPr id="343" name="ZoneTexte 9"/>
          <p:cNvSpPr/>
          <p:nvPr/>
        </p:nvSpPr>
        <p:spPr>
          <a:xfrm>
            <a:off x="-75240" y="192096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ZoneTexte 11"/>
          <p:cNvSpPr/>
          <p:nvPr/>
        </p:nvSpPr>
        <p:spPr>
          <a:xfrm>
            <a:off x="-82440" y="34178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ZoneTexte 12"/>
          <p:cNvSpPr/>
          <p:nvPr/>
        </p:nvSpPr>
        <p:spPr>
          <a:xfrm>
            <a:off x="-78840" y="50022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Image 14" descr=""/>
          <p:cNvPicPr/>
          <p:nvPr/>
        </p:nvPicPr>
        <p:blipFill>
          <a:blip r:embed="rId3"/>
          <a:stretch/>
        </p:blipFill>
        <p:spPr>
          <a:xfrm>
            <a:off x="6286680" y="1254240"/>
            <a:ext cx="1600200" cy="880920"/>
          </a:xfrm>
          <a:prstGeom prst="rect">
            <a:avLst/>
          </a:prstGeom>
          <a:ln w="0">
            <a:noFill/>
          </a:ln>
        </p:spPr>
      </p:pic>
      <p:pic>
        <p:nvPicPr>
          <p:cNvPr id="347" name="Image 15" descr=""/>
          <p:cNvPicPr/>
          <p:nvPr/>
        </p:nvPicPr>
        <p:blipFill>
          <a:blip r:embed="rId4"/>
          <a:stretch/>
        </p:blipFill>
        <p:spPr>
          <a:xfrm>
            <a:off x="2463840" y="2419200"/>
            <a:ext cx="5715000" cy="37911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6"/>
          <p:cNvSpPr/>
          <p:nvPr/>
        </p:nvSpPr>
        <p:spPr>
          <a:xfrm>
            <a:off x="-175320" y="25671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Autour du </a:t>
            </a:r>
            <a:r>
              <a:rPr b="1" lang="fr-FR" sz="2800" spc="-1" strike="noStrike">
                <a:solidFill>
                  <a:srgbClr val="ffffff"/>
                </a:solidFill>
                <a:latin typeface="Baskerville Old Face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-151560" y="42260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Autour du </a:t>
            </a:r>
            <a:r>
              <a:rPr b="1" lang="fr-FR" sz="2800" spc="-1" strike="noStrike">
                <a:solidFill>
                  <a:srgbClr val="ffffff"/>
                </a:solidFill>
                <a:latin typeface="Baskerville Old Face"/>
              </a:rPr>
              <a:t>8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-132480" y="564048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Autour du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askerville Old Face"/>
              </a:rPr>
              <a:t>3. 4. 5. 6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6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2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4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14080" cy="39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4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1732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4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921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4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982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ZoneTexte 4"/>
          <p:cNvSpPr/>
          <p:nvPr/>
        </p:nvSpPr>
        <p:spPr>
          <a:xfrm>
            <a:off x="-35640" y="143676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trapèze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ZoneTexte 5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8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ZoneTexte 6"/>
          <p:cNvSpPr/>
          <p:nvPr/>
        </p:nvSpPr>
        <p:spPr>
          <a:xfrm>
            <a:off x="-14040" y="314496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7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ZoneTexte 7"/>
          <p:cNvSpPr/>
          <p:nvPr/>
        </p:nvSpPr>
        <p:spPr>
          <a:xfrm>
            <a:off x="68760" y="435132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6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9" descr=""/>
          <p:cNvPicPr/>
          <p:nvPr/>
        </p:nvPicPr>
        <p:blipFill>
          <a:blip r:embed="rId1"/>
          <a:stretch/>
        </p:blipFill>
        <p:spPr>
          <a:xfrm>
            <a:off x="3529080" y="2095560"/>
            <a:ext cx="848664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ZoneTexte 3"/>
          <p:cNvSpPr/>
          <p:nvPr/>
        </p:nvSpPr>
        <p:spPr>
          <a:xfrm>
            <a:off x="-71640" y="14367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triangle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ZoneTexte 5"/>
          <p:cNvSpPr/>
          <p:nvPr/>
        </p:nvSpPr>
        <p:spPr>
          <a:xfrm>
            <a:off x="-42120" y="1960560"/>
            <a:ext cx="2678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4,5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6"/>
          <p:cNvSpPr/>
          <p:nvPr/>
        </p:nvSpPr>
        <p:spPr>
          <a:xfrm>
            <a:off x="-20880" y="3144960"/>
            <a:ext cx="2562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10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7"/>
          <p:cNvSpPr/>
          <p:nvPr/>
        </p:nvSpPr>
        <p:spPr>
          <a:xfrm>
            <a:off x="68760" y="435132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6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Image 8" descr=""/>
          <p:cNvPicPr/>
          <p:nvPr/>
        </p:nvPicPr>
        <p:blipFill>
          <a:blip r:embed="rId1"/>
          <a:stretch/>
        </p:blipFill>
        <p:spPr>
          <a:xfrm>
            <a:off x="5618160" y="1960560"/>
            <a:ext cx="6334200" cy="47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ZoneTexte 4"/>
          <p:cNvSpPr/>
          <p:nvPr/>
        </p:nvSpPr>
        <p:spPr>
          <a:xfrm>
            <a:off x="0" y="1598760"/>
            <a:ext cx="57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Il a reçu le plus de prospectus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ZoneTexte 6"/>
          <p:cNvSpPr/>
          <p:nvPr/>
        </p:nvSpPr>
        <p:spPr>
          <a:xfrm>
            <a:off x="-54360" y="2155680"/>
            <a:ext cx="2702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le Dimanch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ZoneTexte 7"/>
          <p:cNvSpPr/>
          <p:nvPr/>
        </p:nvSpPr>
        <p:spPr>
          <a:xfrm>
            <a:off x="-14040" y="350820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le Jeudi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ZoneTexte 8"/>
          <p:cNvSpPr/>
          <p:nvPr/>
        </p:nvSpPr>
        <p:spPr>
          <a:xfrm>
            <a:off x="-135720" y="4664160"/>
            <a:ext cx="2884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tous les jou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Image 9" descr=""/>
          <p:cNvPicPr/>
          <p:nvPr/>
        </p:nvPicPr>
        <p:blipFill>
          <a:blip r:embed="rId1"/>
          <a:stretch/>
        </p:blipFill>
        <p:spPr>
          <a:xfrm>
            <a:off x="5619600" y="1568520"/>
            <a:ext cx="63835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23T15:55:29Z</dcterms:modified>
  <cp:revision>78</cp:revision>
  <dc:subject/>
  <dc:title>Questions FLASH</dc:title>
</cp:coreProperties>
</file>