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635-754E-4635-B600-275FE753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7DA-D310-42F0-9A3A-EAAC3CD2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697-9AA7-485D-A45D-9FAAB6E5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271-F138-4FA3-B6B6-D339713F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EA7D-4E6B-4985-B045-E751BC8B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4D15-F5E3-41E4-9378-B46A89A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311A-33C3-4DB5-B027-5EFB7DBC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AE1A-9C2F-4B86-88BD-0C7A087E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2AEF-3941-4802-A572-9A5993A7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5C85-7283-4D88-B268-6F312F59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EF58-3B64-46DA-84B2-22BCBA1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90E-A804-4EAE-8574-090F1DDE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A9B7-3AD4-436F-ACD2-3E35BB41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4F60-3B76-46C6-BAD9-39B1F268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3D7E-D270-4B19-B1C0-C46F1D27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127B-840C-456C-9B12-A6F45C22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9338-903A-4E93-B5ED-19EDC9C5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EE06-CF82-4784-90CD-47A40CCB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E4F2-4AC8-48EB-916B-4A4C3DC1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D76D5-719A-402A-8FA0-7287117E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B225-02D1-4739-9BF7-E0A7C75A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587E-06EC-44C1-A71C-ED640029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725-D068-4E69-83DD-EFBC1538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F82B-0D18-49B4-AFE7-CE9C34E3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47D13-A4DB-4175-9FE1-EE49CBE6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1C86-7A38-4101-ACF8-6A1D61E3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85EA-3F30-4844-93F1-76D7118D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5EB1-1474-4792-9CB0-88FCB38D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9807-32BC-4BE9-8614-F976C193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1B77-D9BC-4674-BFBC-5071AC35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0C0B-5136-48BA-A6FB-5354CA36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CB50-DD76-429B-AAD2-54BFCC91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4ABEE-C727-455A-AF39-679BB773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0A1-E0E9-4CC3-A12C-2172179E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9286-183E-4BEE-B175-6B363EED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EBE7-31EA-42C6-A4C9-FABBB45E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84F8F-0FFB-48F0-9737-74DED78D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F28D5-AAC9-45D4-83F5-C4F57D2A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AF2EA-A4D6-45C6-A9CD-4DACAB07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33430-D6C4-4FBD-9A85-24890374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F620-DD99-4A90-A787-26AA155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9457-2435-4A8B-B494-82B4C096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2EF6-632C-45F0-8AB1-86A77591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AAE6F-B794-40F2-ACD1-4BC561EB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3BB-4ED2-4D1C-AEC5-3403322F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195D3-6AC3-4C37-AFA0-010AAD05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4E02A-FD48-4770-81C6-5A68B3C8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16915-F76C-42A5-B5A4-F78A3C29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99444-9D7F-4ADC-A08E-E5B056FA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F30A-A25B-4C49-AFC4-8DD8C7F2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A6C15-8AA9-44C2-BAC5-C7AE3C94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65A5D-E766-4772-8194-BC704375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CD2E4-D769-45AC-A566-AA8FF599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3C21E-B95B-4660-BAF6-F480F66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AA65-3E65-43D7-ADC0-64425335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A32-9A24-45B3-87EE-60CE20F4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1A2E5-BB93-4B85-A2DE-AFAFEEDF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540E1-5160-4EDF-BF67-63AE15F3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08CC4-C05F-4E1A-B159-F1F52A31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FA672-D8D9-40D2-B17D-785A0724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46CF-EDC1-4761-87C3-ACEC2102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CC72-1419-4BD2-8323-23B3D763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9747C-8DC1-418F-9DAF-224CA689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71D2E-BFF6-4A5E-A466-4AB8B2D9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48664-FE74-4830-9B40-7EEEBC83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86526-B7A6-4D2B-96B4-3D13D11A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941-927A-4A64-B82E-578780E5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5687B-339C-4F76-A5E1-30BF085A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5FA0-093E-464A-B134-53127969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BA74-2BD2-46FA-8804-D17E8567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7DD41-C4BE-49B6-9BCD-1C760308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B2F4C-CF4D-4ADA-AA82-883E8677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BD444-9005-4672-BDCD-EA84C214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29F09-D168-4D6C-8492-B34B5910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6D134-8446-49FE-8065-4EDA4C16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E91C6-DDBE-461E-8151-24E43FD4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ABAB3-EC4A-4544-AED2-CE002C4C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275-8463-46BF-973B-5B8A8B0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AD0D3-21F5-4192-AC59-44A3FC14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F5D3D-A1DA-49C9-BE4B-A5D652EC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B3A9E-56A2-488D-815B-192F5A52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D93F2-1046-4F0D-8446-521B6956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66D7F-3F7A-4820-95D7-BCA325E8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010-1147-4290-B0C8-D0DA4784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B904D-6D75-488C-995B-12852F8AFC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23321-8756-44B2-9E32-70EB67067C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E18BE-BE12-44E4-BD1C-AAF2E53E68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65241-2119-46DE-81BF-9D1F8EA2AF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74E9C-BE2B-4C24-B7E5-29FA368507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C3F76-B0C9-45C5-9918-299BF5BB4E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778D6-E0DD-4ECE-93BC-B84CE64D1C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330320" y="912960"/>
            <a:ext cx="5208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ercredi 27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Image 2" descr=""/>
          <p:cNvPicPr/>
          <p:nvPr/>
        </p:nvPicPr>
        <p:blipFill>
          <a:blip r:embed="rId1"/>
          <a:stretch/>
        </p:blipFill>
        <p:spPr>
          <a:xfrm>
            <a:off x="0" y="2401920"/>
            <a:ext cx="1218564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Image 2" descr=""/>
          <p:cNvPicPr/>
          <p:nvPr/>
        </p:nvPicPr>
        <p:blipFill>
          <a:blip r:embed="rId1"/>
          <a:stretch/>
        </p:blipFill>
        <p:spPr>
          <a:xfrm>
            <a:off x="0" y="2952720"/>
            <a:ext cx="1224108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Image 2" descr=""/>
          <p:cNvPicPr/>
          <p:nvPr/>
        </p:nvPicPr>
        <p:blipFill>
          <a:blip r:embed="rId1"/>
          <a:stretch/>
        </p:blipFill>
        <p:spPr>
          <a:xfrm>
            <a:off x="0" y="2255760"/>
            <a:ext cx="122490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Image 2" descr=""/>
          <p:cNvPicPr/>
          <p:nvPr/>
        </p:nvPicPr>
        <p:blipFill>
          <a:blip r:embed="rId1"/>
          <a:stretch/>
        </p:blipFill>
        <p:spPr>
          <a:xfrm>
            <a:off x="0" y="2373480"/>
            <a:ext cx="1216656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2" descr=""/>
          <p:cNvPicPr/>
          <p:nvPr/>
        </p:nvPicPr>
        <p:blipFill>
          <a:blip r:embed="rId1"/>
          <a:stretch/>
        </p:blipFill>
        <p:spPr>
          <a:xfrm>
            <a:off x="0" y="3056040"/>
            <a:ext cx="1219680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2" descr=""/>
          <p:cNvPicPr/>
          <p:nvPr/>
        </p:nvPicPr>
        <p:blipFill>
          <a:blip r:embed="rId1"/>
          <a:stretch/>
        </p:blipFill>
        <p:spPr>
          <a:xfrm>
            <a:off x="0" y="2374920"/>
            <a:ext cx="12190320" cy="14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2" descr=""/>
          <p:cNvPicPr/>
          <p:nvPr/>
        </p:nvPicPr>
        <p:blipFill>
          <a:blip r:embed="rId1"/>
          <a:stretch/>
        </p:blipFill>
        <p:spPr>
          <a:xfrm>
            <a:off x="0" y="2179800"/>
            <a:ext cx="12241080" cy="16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Imag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12209400" cy="13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Image 2" descr=""/>
          <p:cNvPicPr/>
          <p:nvPr/>
        </p:nvPicPr>
        <p:blipFill>
          <a:blip r:embed="rId1"/>
          <a:stretch/>
        </p:blipFill>
        <p:spPr>
          <a:xfrm>
            <a:off x="0" y="2239920"/>
            <a:ext cx="12228480" cy="15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Image 2" descr=""/>
          <p:cNvPicPr/>
          <p:nvPr/>
        </p:nvPicPr>
        <p:blipFill>
          <a:blip r:embed="rId1"/>
          <a:stretch/>
        </p:blipFill>
        <p:spPr>
          <a:xfrm>
            <a:off x="0" y="2182680"/>
            <a:ext cx="12200040" cy="157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10-01T17:50:30Z</dcterms:modified>
  <cp:revision>81</cp:revision>
  <dc:subject/>
  <dc:title>Questions FLASH</dc:title>
</cp:coreProperties>
</file>