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DDD-A79B-4253-BB0F-7C499A94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EC2D-5789-4F00-A06B-4F4C4B08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55C8-FF24-4DBF-9750-90837C83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905-DE3F-498F-8C08-C16A8B1D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89B7-739B-4A08-9447-D0938294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3A57-C044-4E62-A341-559C03B6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5C12-8CB5-498C-8EC3-E283E7CB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EBCF-D3FE-45D6-BA85-DEC782B0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1DFF-1D93-4725-9CB6-61E34448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3B69-AAD6-416B-856A-BA1F5CCD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6F6F-6A4E-4E5C-B9A6-AB2F306B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720-9EE2-4579-A4D0-F8370177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C8AD-DCEC-4735-A70A-8CAF63C2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3BFD-88F8-432D-A08E-1385F5AC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0A14-52B3-4652-8A50-EE2C7E12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F737-3770-47F0-A171-E0319E8B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7C21-0A64-428B-BBB6-0DED60FD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A5B1-08C9-4EF3-BCBB-9EFA7DB1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A9E83-98A7-411E-ACB8-38EE909F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825D8-00DA-446C-BAEF-4634B695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EB3BC-EF8E-4793-8786-B74B544E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25504-5206-4350-B3A2-4FF2D7A7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E5F3-A156-48E6-BC8B-D1835C4E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F9FBB-5464-416C-A96E-0227DD23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A4D52-BE8D-4D33-B943-49133DDD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28153-06C9-4638-AF7D-18B0ED99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8C423-09A4-4180-BC86-159646FF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E466-4C02-44B0-8E4F-DA430D32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E8E52-8FE4-4000-96FC-80D7FD89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50CA0-A974-4DCA-98FE-5CA97722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54931-72E2-423C-BD86-F27DBF6A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803B1-C84B-4AAB-B3CD-51309478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CC23E-2600-4968-B6D5-3CFAA5A7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071-975B-4AFA-BE98-DA987B29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E42C8-7555-41EB-8F1F-C6189F2A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8E3FF-56CC-4836-8CDE-81AFF98C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556DB-16AF-45F8-9A19-24D2DC5E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6F49-6F0B-4741-9979-D7E9E81D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CC740-7003-4E40-BB0C-DCAE281F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CC7DE-873B-42AC-93F3-D7C4B048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04630-777C-423D-8297-8BC91CFB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DD28A-36A2-4338-A38D-D4E9356F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6976C-BFFB-4143-B32D-60E0ECC1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4D3E8-2042-46FE-BB8F-1C5B043E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E24-426E-4C88-AD2A-821C631D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6E801-AEEF-4832-A1D3-2ACD25C2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CFFF3-1311-4905-8259-2232D5DD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CFA6A-399A-4370-A185-B1FC99E6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66A2B-AA0E-4E2E-80A2-8A24D1D6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69EC1-8E6B-448C-9651-4B99DBDD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956F7-68F8-4A2B-B63F-C092C1F5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6B59E-8E3D-419C-9213-27E76D6B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E818E-66FE-4E45-BFBA-300630F1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C9967-EC8A-4162-BC84-567C3D9F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41049-B2F1-4A3A-80BC-36A925F2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96C-9DD8-4B42-9565-3D78510C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9CB18-4B1D-4481-8934-578663B6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914A3-379F-4E49-81DE-4B868A6C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6E957-6767-4560-A37D-3A229CD0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C64D1-B7E7-4E89-B35D-B188A52F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015BB-A34F-45DD-9702-8687BB24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7AA03-3005-414D-9302-B1DEA95D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25146-1422-4311-AF5A-89BCC38D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18D2A-6972-4424-836A-248DF942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C4098-9226-4BD0-837A-FB806640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D4EEC-377E-432D-9DD2-4E7E11F4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D37-AD2B-4F75-B147-367B7CA8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4B92C-C564-4490-A841-8ECEA25E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A1329-B8EF-4533-A458-26E3E56F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88B94-00EC-4636-BA48-B11509EF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7C9C2-41F4-4017-8A9F-E832FBA9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84E4F-3B83-4E63-9B95-97917F1A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786CA-84D4-4A74-BAED-80E27F90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1F807-B818-44C3-B128-48DAB11A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BBA97-2083-45A4-942C-6ABACA32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25485-9E2E-460C-958D-82578BF4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21F6D-20D0-4A8A-A433-885F6412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150-A543-4C58-8944-B15E3F06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88D90-02ED-45AB-BC98-1BFD5F7F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599A0-8185-4B65-83F0-58784614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AE5F3-D481-4AFB-84E9-3C740D14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C0D0F-C6EE-49C5-81F4-33ACDB7F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56A3F-130A-479C-BD2A-26F31D00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CAF-2E8F-4714-92B5-94BB516D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6C70D-A955-4D81-9584-EABBCFCBAE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0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0D7FA-904A-47D3-87E7-0BB9A784F5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B2CCE-E9A1-4E18-AEED-25B5BD3D06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8EED4-A140-4247-B6A0-C7BB783157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45AEA-D760-40E1-BB66-93F284FF51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CFC6B-A932-49FE-A1B4-C8DCA7CD9C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F310B-2CAE-465C-BDD0-60F583A69B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entury Gothic"/>
              </a:rPr>
              <a:t>QUESTIONS FLASH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Géométrie mentale , calcul mental, et algorithmi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ZoneTexte 2"/>
          <p:cNvSpPr/>
          <p:nvPr/>
        </p:nvSpPr>
        <p:spPr>
          <a:xfrm>
            <a:off x="7330320" y="812880"/>
            <a:ext cx="5208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askerville Old Face"/>
              </a:rPr>
              <a:t>Mercredi 20 Septembre 2017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ZoneTexte 3"/>
          <p:cNvSpPr/>
          <p:nvPr/>
        </p:nvSpPr>
        <p:spPr>
          <a:xfrm>
            <a:off x="9901800" y="25369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PRETOR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ZoneTexte 5"/>
          <p:cNvSpPr/>
          <p:nvPr/>
        </p:nvSpPr>
        <p:spPr>
          <a:xfrm>
            <a:off x="9942120" y="29624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DAKA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9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ZoneTexte 2"/>
          <p:cNvSpPr/>
          <p:nvPr/>
        </p:nvSpPr>
        <p:spPr>
          <a:xfrm>
            <a:off x="-54000" y="1436760"/>
            <a:ext cx="81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Quel est le périmètre du demi-cercle suivant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ZoneTexte 3"/>
          <p:cNvSpPr/>
          <p:nvPr/>
        </p:nvSpPr>
        <p:spPr>
          <a:xfrm>
            <a:off x="396720" y="235728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A.    4 c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Image 2" descr=""/>
          <p:cNvPicPr/>
          <p:nvPr/>
        </p:nvPicPr>
        <p:blipFill>
          <a:blip r:embed="rId1"/>
          <a:stretch/>
        </p:blipFill>
        <p:spPr>
          <a:xfrm>
            <a:off x="5359320" y="1960560"/>
            <a:ext cx="4803840" cy="4273560"/>
          </a:xfrm>
          <a:prstGeom prst="rect">
            <a:avLst/>
          </a:prstGeom>
          <a:ln w="0">
            <a:noFill/>
          </a:ln>
        </p:spPr>
      </p:pic>
      <p:pic>
        <p:nvPicPr>
          <p:cNvPr id="355" name="ZoneTexte 3" descr=""/>
          <p:cNvPicPr/>
          <p:nvPr/>
        </p:nvPicPr>
        <p:blipFill>
          <a:blip r:embed="rId2"/>
          <a:stretch/>
        </p:blipFill>
        <p:spPr>
          <a:xfrm>
            <a:off x="347760" y="2992320"/>
            <a:ext cx="2114280" cy="525600"/>
          </a:xfrm>
          <a:prstGeom prst="rect">
            <a:avLst/>
          </a:prstGeom>
          <a:ln w="0">
            <a:noFill/>
          </a:ln>
        </p:spPr>
      </p:pic>
      <p:pic>
        <p:nvPicPr>
          <p:cNvPr id="356" name="ZoneTexte 3" descr=""/>
          <p:cNvPicPr/>
          <p:nvPr/>
        </p:nvPicPr>
        <p:blipFill>
          <a:blip r:embed="rId3"/>
          <a:stretch/>
        </p:blipFill>
        <p:spPr>
          <a:xfrm>
            <a:off x="347760" y="3627360"/>
            <a:ext cx="2700360" cy="523800"/>
          </a:xfrm>
          <a:prstGeom prst="rect">
            <a:avLst/>
          </a:prstGeom>
          <a:ln w="0">
            <a:noFill/>
          </a:ln>
        </p:spPr>
      </p:pic>
      <p:pic>
        <p:nvPicPr>
          <p:cNvPr id="357" name="ZoneTexte 3" descr=""/>
          <p:cNvPicPr/>
          <p:nvPr/>
        </p:nvPicPr>
        <p:blipFill>
          <a:blip r:embed="rId4"/>
          <a:stretch/>
        </p:blipFill>
        <p:spPr>
          <a:xfrm>
            <a:off x="347760" y="4260960"/>
            <a:ext cx="2676600" cy="523800"/>
          </a:xfrm>
          <a:prstGeom prst="rect">
            <a:avLst/>
          </a:prstGeom>
          <a:ln w="0">
            <a:noFill/>
          </a:ln>
        </p:spPr>
      </p:pic>
      <p:pic>
        <p:nvPicPr>
          <p:cNvPr id="358" name="ZoneTexte 3" descr=""/>
          <p:cNvPicPr/>
          <p:nvPr/>
        </p:nvPicPr>
        <p:blipFill>
          <a:blip r:embed="rId5"/>
          <a:stretch/>
        </p:blipFill>
        <p:spPr>
          <a:xfrm>
            <a:off x="378000" y="4896000"/>
            <a:ext cx="2408040" cy="5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0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ZoneTexte 4"/>
          <p:cNvSpPr/>
          <p:nvPr/>
        </p:nvSpPr>
        <p:spPr>
          <a:xfrm>
            <a:off x="-66600" y="1436760"/>
            <a:ext cx="91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Combien de triangles sont dessinés dans le script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ZoneTexte 5"/>
          <p:cNvSpPr/>
          <p:nvPr/>
        </p:nvSpPr>
        <p:spPr>
          <a:xfrm>
            <a:off x="183240" y="2382840"/>
            <a:ext cx="13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A. 120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ZoneTexte 6"/>
          <p:cNvSpPr/>
          <p:nvPr/>
        </p:nvSpPr>
        <p:spPr>
          <a:xfrm>
            <a:off x="177480" y="332892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B.  -20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3" name="Image 7" descr=""/>
          <p:cNvPicPr/>
          <p:nvPr/>
        </p:nvPicPr>
        <p:blipFill>
          <a:blip r:embed="rId1"/>
          <a:stretch/>
        </p:blipFill>
        <p:spPr>
          <a:xfrm>
            <a:off x="4780080" y="1990800"/>
            <a:ext cx="7294320" cy="4332240"/>
          </a:xfrm>
          <a:prstGeom prst="rect">
            <a:avLst/>
          </a:prstGeom>
          <a:ln w="0">
            <a:noFill/>
          </a:ln>
        </p:spPr>
      </p:pic>
      <p:sp>
        <p:nvSpPr>
          <p:cNvPr id="364" name="ZoneTexte 6"/>
          <p:cNvSpPr/>
          <p:nvPr/>
        </p:nvSpPr>
        <p:spPr>
          <a:xfrm>
            <a:off x="203040" y="427500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C.  5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ZoneTexte 6"/>
          <p:cNvSpPr/>
          <p:nvPr/>
        </p:nvSpPr>
        <p:spPr>
          <a:xfrm>
            <a:off x="170640" y="522144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D.  3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FIN DU FLASH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1"/>
          <a:stretch/>
        </p:blipFill>
        <p:spPr>
          <a:xfrm>
            <a:off x="941400" y="511200"/>
            <a:ext cx="595296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3" name="Image 2" descr=""/>
          <p:cNvPicPr/>
          <p:nvPr/>
        </p:nvPicPr>
        <p:blipFill>
          <a:blip r:embed="rId1"/>
          <a:stretch/>
        </p:blipFill>
        <p:spPr>
          <a:xfrm>
            <a:off x="0" y="1436760"/>
            <a:ext cx="12165120" cy="34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2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Image 2" descr=""/>
          <p:cNvPicPr/>
          <p:nvPr/>
        </p:nvPicPr>
        <p:blipFill>
          <a:blip r:embed="rId1"/>
          <a:stretch/>
        </p:blipFill>
        <p:spPr>
          <a:xfrm>
            <a:off x="0" y="1436760"/>
            <a:ext cx="1219212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3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Image 3" descr=""/>
          <p:cNvPicPr/>
          <p:nvPr/>
        </p:nvPicPr>
        <p:blipFill>
          <a:blip r:embed="rId1"/>
          <a:stretch/>
        </p:blipFill>
        <p:spPr>
          <a:xfrm>
            <a:off x="0" y="1436760"/>
            <a:ext cx="12192120" cy="34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4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ZoneTexte 2"/>
          <p:cNvSpPr/>
          <p:nvPr/>
        </p:nvSpPr>
        <p:spPr>
          <a:xfrm>
            <a:off x="-15480" y="1436760"/>
            <a:ext cx="96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J’ai un angle droit et 2 cotés égaux je suis un triangle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ZoneTexte 3"/>
          <p:cNvSpPr/>
          <p:nvPr/>
        </p:nvSpPr>
        <p:spPr>
          <a:xfrm>
            <a:off x="190800" y="238284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A.  Rectang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ZoneTexte 5"/>
          <p:cNvSpPr/>
          <p:nvPr/>
        </p:nvSpPr>
        <p:spPr>
          <a:xfrm>
            <a:off x="173880" y="290520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B.   Isocè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ZoneTexte 6"/>
          <p:cNvSpPr/>
          <p:nvPr/>
        </p:nvSpPr>
        <p:spPr>
          <a:xfrm>
            <a:off x="148680" y="342900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C.  Equilatér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ZoneTexte 7"/>
          <p:cNvSpPr/>
          <p:nvPr/>
        </p:nvSpPr>
        <p:spPr>
          <a:xfrm>
            <a:off x="196560" y="395280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D.  Quelconqu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ZoneTexte 8"/>
          <p:cNvSpPr/>
          <p:nvPr/>
        </p:nvSpPr>
        <p:spPr>
          <a:xfrm>
            <a:off x="194760" y="4475160"/>
            <a:ext cx="38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E.   Isocèle-rectang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ZoneTexte 9"/>
          <p:cNvSpPr/>
          <p:nvPr/>
        </p:nvSpPr>
        <p:spPr>
          <a:xfrm>
            <a:off x="151560" y="4998960"/>
            <a:ext cx="45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F.   Rectangle-équilatér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6" name="Image 2" descr=""/>
          <p:cNvPicPr/>
          <p:nvPr/>
        </p:nvPicPr>
        <p:blipFill>
          <a:blip r:embed="rId1"/>
          <a:stretch/>
        </p:blipFill>
        <p:spPr>
          <a:xfrm>
            <a:off x="5943600" y="2109960"/>
            <a:ext cx="3886200" cy="36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ZoneTexte 2"/>
          <p:cNvSpPr/>
          <p:nvPr/>
        </p:nvSpPr>
        <p:spPr>
          <a:xfrm>
            <a:off x="-137520" y="1436760"/>
            <a:ext cx="107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Un triangle qui a 2 cotés de même longueur est un triangle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ZoneTexte 3"/>
          <p:cNvSpPr/>
          <p:nvPr/>
        </p:nvSpPr>
        <p:spPr>
          <a:xfrm>
            <a:off x="190800" y="238284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A.  Rectang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ZoneTexte 5"/>
          <p:cNvSpPr/>
          <p:nvPr/>
        </p:nvSpPr>
        <p:spPr>
          <a:xfrm>
            <a:off x="173880" y="290520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B.   Isocè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ZoneTexte 6"/>
          <p:cNvSpPr/>
          <p:nvPr/>
        </p:nvSpPr>
        <p:spPr>
          <a:xfrm>
            <a:off x="148680" y="342900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C.  Equilatér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ZoneTexte 7"/>
          <p:cNvSpPr/>
          <p:nvPr/>
        </p:nvSpPr>
        <p:spPr>
          <a:xfrm>
            <a:off x="196560" y="395280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D.  Quelconqu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ZoneTexte 8"/>
          <p:cNvSpPr/>
          <p:nvPr/>
        </p:nvSpPr>
        <p:spPr>
          <a:xfrm>
            <a:off x="194760" y="4475160"/>
            <a:ext cx="38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E.   Isocèle-rectang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ZoneTexte 9"/>
          <p:cNvSpPr/>
          <p:nvPr/>
        </p:nvSpPr>
        <p:spPr>
          <a:xfrm>
            <a:off x="151560" y="4998960"/>
            <a:ext cx="45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F.   Rectangle-équilatér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Image 10" descr=""/>
          <p:cNvPicPr/>
          <p:nvPr/>
        </p:nvPicPr>
        <p:blipFill>
          <a:blip r:embed="rId1"/>
          <a:stretch/>
        </p:blipFill>
        <p:spPr>
          <a:xfrm>
            <a:off x="5489640" y="2065320"/>
            <a:ext cx="394344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ZoneTexte 2"/>
          <p:cNvSpPr/>
          <p:nvPr/>
        </p:nvSpPr>
        <p:spPr>
          <a:xfrm>
            <a:off x="-190440" y="1436760"/>
            <a:ext cx="85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Un triangle qui a un angle droit est un triangle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ZoneTexte 3"/>
          <p:cNvSpPr/>
          <p:nvPr/>
        </p:nvSpPr>
        <p:spPr>
          <a:xfrm>
            <a:off x="190800" y="238284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A.  Rectang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ZoneTexte 5"/>
          <p:cNvSpPr/>
          <p:nvPr/>
        </p:nvSpPr>
        <p:spPr>
          <a:xfrm>
            <a:off x="173880" y="290520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B.   Isocè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ZoneTexte 6"/>
          <p:cNvSpPr/>
          <p:nvPr/>
        </p:nvSpPr>
        <p:spPr>
          <a:xfrm>
            <a:off x="148680" y="342900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C.  Equilatér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ZoneTexte 7"/>
          <p:cNvSpPr/>
          <p:nvPr/>
        </p:nvSpPr>
        <p:spPr>
          <a:xfrm>
            <a:off x="196560" y="395280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D.  Quelconqu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ZoneTexte 8"/>
          <p:cNvSpPr/>
          <p:nvPr/>
        </p:nvSpPr>
        <p:spPr>
          <a:xfrm>
            <a:off x="194760" y="4475160"/>
            <a:ext cx="38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E.   Isocèle-rectang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ZoneTexte 9"/>
          <p:cNvSpPr/>
          <p:nvPr/>
        </p:nvSpPr>
        <p:spPr>
          <a:xfrm>
            <a:off x="151560" y="4998960"/>
            <a:ext cx="45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F.   Rectangle-équilatér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4" name="Image 2" descr=""/>
          <p:cNvPicPr/>
          <p:nvPr/>
        </p:nvPicPr>
        <p:blipFill>
          <a:blip r:embed="rId1"/>
          <a:stretch/>
        </p:blipFill>
        <p:spPr>
          <a:xfrm>
            <a:off x="5589720" y="2195640"/>
            <a:ext cx="38192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7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ZoneTexte 2"/>
          <p:cNvSpPr/>
          <p:nvPr/>
        </p:nvSpPr>
        <p:spPr>
          <a:xfrm>
            <a:off x="-137520" y="1436760"/>
            <a:ext cx="107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Un triangle qui a 3 cotés de même longueur est un triangle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ZoneTexte 3"/>
          <p:cNvSpPr/>
          <p:nvPr/>
        </p:nvSpPr>
        <p:spPr>
          <a:xfrm>
            <a:off x="190800" y="238284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A.  Rectang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ZoneTexte 5"/>
          <p:cNvSpPr/>
          <p:nvPr/>
        </p:nvSpPr>
        <p:spPr>
          <a:xfrm>
            <a:off x="173880" y="290520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B.   Isocè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ZoneTexte 6"/>
          <p:cNvSpPr/>
          <p:nvPr/>
        </p:nvSpPr>
        <p:spPr>
          <a:xfrm>
            <a:off x="148680" y="342900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C.  Equilatér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ZoneTexte 7"/>
          <p:cNvSpPr/>
          <p:nvPr/>
        </p:nvSpPr>
        <p:spPr>
          <a:xfrm>
            <a:off x="196560" y="395280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D.  Quelconqu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ZoneTexte 8"/>
          <p:cNvSpPr/>
          <p:nvPr/>
        </p:nvSpPr>
        <p:spPr>
          <a:xfrm>
            <a:off x="194760" y="4475160"/>
            <a:ext cx="38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E.   Isocèle-rectang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ZoneTexte 9"/>
          <p:cNvSpPr/>
          <p:nvPr/>
        </p:nvSpPr>
        <p:spPr>
          <a:xfrm>
            <a:off x="151560" y="4998960"/>
            <a:ext cx="45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F.   Rectangle-équilatér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3" name="Image 2" descr=""/>
          <p:cNvPicPr/>
          <p:nvPr/>
        </p:nvPicPr>
        <p:blipFill>
          <a:blip r:embed="rId1"/>
          <a:stretch/>
        </p:blipFill>
        <p:spPr>
          <a:xfrm>
            <a:off x="5792760" y="2033640"/>
            <a:ext cx="3876840" cy="38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8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ZoneTexte 2"/>
          <p:cNvSpPr/>
          <p:nvPr/>
        </p:nvSpPr>
        <p:spPr>
          <a:xfrm>
            <a:off x="-72000" y="1436760"/>
            <a:ext cx="71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entury Gothic"/>
              </a:rPr>
              <a:t>Quel est le périmètre du cercle suivant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6" name="Image 2" descr=""/>
          <p:cNvPicPr/>
          <p:nvPr/>
        </p:nvPicPr>
        <p:blipFill>
          <a:blip r:embed="rId1"/>
          <a:stretch/>
        </p:blipFill>
        <p:spPr>
          <a:xfrm>
            <a:off x="5273640" y="1960560"/>
            <a:ext cx="4762440" cy="4200480"/>
          </a:xfrm>
          <a:prstGeom prst="rect">
            <a:avLst/>
          </a:prstGeom>
          <a:ln w="0">
            <a:noFill/>
          </a:ln>
        </p:spPr>
      </p:pic>
      <p:sp>
        <p:nvSpPr>
          <p:cNvPr id="347" name="ZoneTexte 3"/>
          <p:cNvSpPr/>
          <p:nvPr/>
        </p:nvSpPr>
        <p:spPr>
          <a:xfrm>
            <a:off x="396720" y="235728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entury Gothic"/>
              </a:rPr>
              <a:t>A.    5 c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ZoneTexte 3" descr=""/>
          <p:cNvPicPr/>
          <p:nvPr/>
        </p:nvPicPr>
        <p:blipFill>
          <a:blip r:embed="rId2"/>
          <a:stretch/>
        </p:blipFill>
        <p:spPr>
          <a:xfrm>
            <a:off x="347760" y="2992320"/>
            <a:ext cx="2011320" cy="525600"/>
          </a:xfrm>
          <a:prstGeom prst="rect">
            <a:avLst/>
          </a:prstGeom>
          <a:ln w="0">
            <a:noFill/>
          </a:ln>
        </p:spPr>
      </p:pic>
      <p:pic>
        <p:nvPicPr>
          <p:cNvPr id="349" name="ZoneTexte 3" descr=""/>
          <p:cNvPicPr/>
          <p:nvPr/>
        </p:nvPicPr>
        <p:blipFill>
          <a:blip r:embed="rId3"/>
          <a:stretch/>
        </p:blipFill>
        <p:spPr>
          <a:xfrm>
            <a:off x="347760" y="3627360"/>
            <a:ext cx="2084400" cy="523800"/>
          </a:xfrm>
          <a:prstGeom prst="rect">
            <a:avLst/>
          </a:prstGeom>
          <a:ln w="0">
            <a:noFill/>
          </a:ln>
        </p:spPr>
      </p:pic>
      <p:pic>
        <p:nvPicPr>
          <p:cNvPr id="350" name="ZoneTexte 3" descr=""/>
          <p:cNvPicPr/>
          <p:nvPr/>
        </p:nvPicPr>
        <p:blipFill>
          <a:blip r:embed="rId4"/>
          <a:stretch/>
        </p:blipFill>
        <p:spPr>
          <a:xfrm>
            <a:off x="347760" y="4260960"/>
            <a:ext cx="2054160" cy="52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23:07:47Z</dcterms:created>
  <dc:creator>françois FATOUX</dc:creator>
  <dc:description/>
  <dc:language>en-US</dc:language>
  <cp:lastModifiedBy>françois FATOUX</cp:lastModifiedBy>
  <dcterms:modified xsi:type="dcterms:W3CDTF">2017-09-18T18:34:10Z</dcterms:modified>
  <cp:revision>32</cp:revision>
  <dc:subject/>
  <dc:title>Questions FLASH</dc:title>
</cp:coreProperties>
</file>